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4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8.png" ContentType="image/png"/>
  <Override PartName="/ppt/media/image38.png" ContentType="image/png"/>
  <Override PartName="/ppt/media/image40.png" ContentType="image/png"/>
  <Override PartName="/ppt/media/image5.jpeg" ContentType="image/jpeg"/>
  <Override PartName="/ppt/media/image35.png" ContentType="image/png"/>
  <Override PartName="/ppt/media/image9.png" ContentType="image/png"/>
  <Override PartName="/ppt/media/image39.png" ContentType="image/png"/>
  <Override PartName="/ppt/media/image41.png" ContentType="image/png"/>
  <Override PartName="/ppt/media/image10.png" ContentType="image/png"/>
  <Override PartName="/ppt/media/image30.png" ContentType="image/png"/>
  <Override PartName="/ppt/media/image37.png" ContentType="image/png"/>
  <Override PartName="/ppt/media/image7.png" ContentType="image/png"/>
  <Override PartName="/ppt/media/image36.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1.jpeg" ContentType="image/jpe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7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1B3D7-892E-4418-AFA7-B47E1CA70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EDFC-1B40-49C9-B817-E6AE44AC83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1EF6-8973-4E31-A509-821521735B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5DD40-2CFC-4A70-B935-7E49FFC1A1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 could be multiple solutions to a problem and you provide the most feasible o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50AE5-A1BB-4C5E-972B-F03D24E1BA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rpose: writer is hoping to transform something within to reach a peace of min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nk about your favorite devotional song or hymn sung at worship.</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ds are used to convey a particular argument.</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986C-1E7C-4215-A0FB-C1321CB1E5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  In plain English:</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l blessings come from God.</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 owe everything to Him: my life, my health, my friends, and every good thing.</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you sing a song like this at church, you are arguing </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at there is a God</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od is the source of all blessings and goodness</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 owe every blessing in my life to Him. (I owe Him thanks and gratitude.) </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6382-D00E-4630-A600-25C0945C69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ider the occasion that calls for an argume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t of persuasion in ancient rhetoric classifies arguments on basis of tim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arguments can overlap categori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 about present might include implications for futu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we don’t solve the current problem of soil erosion, in 10 years, we may be looking at total destruction of prime farm land.</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85E8-DE13-4EA9-BDCD-C7B6501F5E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ars of clear cutting timber without replanting has led to the current problem of soil erosion in SE Alaba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1378-9C06-4CF7-B5BE-ACBDF7AF49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iberative – make some kind of decis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ften rely on forensic arguments b/c what happened in the past usually decides what will happen in future.</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DD0BD-6E4F-4237-AA54-B432514C88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pideictic or Ceremonial Arguments</a:t>
            </a:r>
            <a:endParaRPr b="0" lang="en-US" sz="1200" spc="-1" strike="noStrike">
              <a:solidFill>
                <a:srgbClr val="000000"/>
              </a:solidFill>
              <a:latin typeface="Tahom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nd to be heard at public occasions</a:t>
            </a:r>
            <a:endParaRPr b="0" lang="en-US" sz="1200" spc="-1" strike="noStrike">
              <a:solidFill>
                <a:srgbClr val="000000"/>
              </a:solidFill>
              <a:latin typeface="Tahom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augurals addresses, sermons, eulogies, graduation speeches, civic remark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1961-4BB6-4524-AE79-84705AAD9B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se kinds of arguments are rooted in ancient rhetorical though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ganize arguments as to their status or STASIS – the kinds of issues they address.  (STASIS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d to a series of questions (pg. 14)</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example: pg. 14 – case that happened a couple of years ago</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E66A-405F-420A-A181-191E6F55E4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6E160-3B19-4795-801F-CAEA2F97AA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tly contested argument based on defini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ok at example by Bob Costa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 his eulogy of Mickey Mantle, one of the greatest baseball players of all time, he distinguishes between a ROLE MODEL and a HERO. Pg. 24</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times, an argument stems from how society or a term is def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st ludicrous attempt at argument of definition was Bill Clinton debating the meaning of the word “is”.</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1D57-4A0A-4FCF-A7EB-E7BEB7F7E1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s of quality (comparison/contrast of car, for example – must be </a:t>
            </a:r>
            <a:r>
              <a:rPr b="1" lang="en-US" sz="1200" spc="-1" strike="noStrike">
                <a:solidFill>
                  <a:srgbClr val="000000"/>
                </a:solidFill>
                <a:latin typeface="Tahoma"/>
              </a:rPr>
              <a:t>fair basis</a:t>
            </a:r>
            <a:r>
              <a:rPr b="0" lang="en-US" sz="1200" spc="-1" strike="noStrike">
                <a:solidFill>
                  <a:srgbClr val="000000"/>
                </a:solidFill>
                <a:latin typeface="Tahoma"/>
              </a:rPr>
              <a:t> for comparison to make fair evaluation – Can’t compare a Toyota Corolla with a Humm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rks evaluates King according to her definition of true lead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3612-6144-4024-B258-A1992C0E96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problems are obvious and do not need to be prove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cus on solution for most of the argument.</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200B-182E-4343-B4A6-F7F0BC1A14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se kinds of arguments are rooted in ancient rhetorical though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ganize arguments as to their status or STASIS – the kinds of issues they address.  (STASIS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d to a series of question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example: pg. 14 – case that happened a couple of years ago</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2A50-247E-4D5F-912C-8199500644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1720-82EF-4DDC-B243-5DBC07F3EF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Sojourner Truth quote is a good example of how we as readers perceive her statements.  That we know she was a former slave who was pleading for justice, not just as a black but as a woman.  In fact, her audience was predominately white; therefore, in her argument, to show her humanity, she focused on herself as a woman first of all.  Once they realized that she was a real person, not just a former slave, then she could show that a woman is a woman is a woman, no matter what colo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he had to establish that connection with her reader in order for them to listen and be persuaded to what she had to say about justice.</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B4361-BE56-4AA6-910F-BCBBD6F7F5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 wary because emotions can lead to unwise judgme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lot of advertising is emotional argumentation: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anies want to appeal to your feelings – make you want to buy a particular produc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ying a certain car will make you feel goo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ring a certain brand of clothing – make you feel fashionable/stylis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EBCC-9AA4-4938-8A26-338FE360E9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you read, look for evidence of these traits</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F7D20-67F8-49F6-8BFF-6D1EDCCC5C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you read, look for evidence of these tra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ok at example pg .36 Edward Abbe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ttom of pg. 36: facts and figures borrowed from the congressional website will carry more weight than stats from Jason’s Gonzo homepage.</a:t>
            </a: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68182-ADC6-486B-A076-595EB81701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im must be backed by reason; author has to prove the clai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s argument based on reasonable premises?  Does the writer provide sufficient evidence to prove claim?</a:t>
            </a: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C1AD-772C-459E-A0EE-556063EEB9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D OF CHAPTER TWO</a:t>
            </a: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EE36C-42FC-4228-A311-928B89FF9C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figure on pg. 53</a:t>
            </a: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B746E-FAF3-472F-8050-6C9E1C130D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figure on pg. 53</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4A5E5-16FF-40B5-8E8F-C17A9981AF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litical poster or advertisement: informs us as readers as to:</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r. X is running for a certain office</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ells us his stand on issues</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icture might show us what he looks like (recognition): physical to name</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32DF-CEC9-4789-9E62-948EF856E2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s important to think about your rhetorical situation as dynamic, since each element of it has the potential to affect all the other elements.  A change of audience, for example, can lead you to reconsider all of your appeals.  If you begin to this in this dynamic way, you’ll be developing a rhetorical turn of mind:  you’ll find yourself viewing any topic from a number of perspectives (What might a different audience think of this?) developing a greater critical engagement with the issues and ideas.</a:t>
            </a:r>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BD8F4-0D94-4E10-AC15-FE8E88A2E4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5713-2454-4A3F-857C-41F500818D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E0B8-1E85-4142-8784-24B296324A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s to convince aren’t necessarily set up to be persuasive, but by using facts, stats, you show readers you present a perspective that is worth serious considera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ample:  writing a report to identify the causes of soil erosion in Southeast Alabama.  You are necessarily trying to win an argument over an opponent, rather you are persuading others to agree with your findings.</a:t>
            </a: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2EDE-09A0-4A19-8C46-F4374711EA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the example by William F. Buckle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s a subject he finds troubling: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 suggesting a solution -  just points out a problem is t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nts his audience to think about the problem, which is the first step in addressing a solu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ve to realize there is a problem before it can be solved)</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8C660-F239-4C88-9E21-348ED66D2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71AAB-590B-406B-A93F-C381C6070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121E4-4060-4B68-9D8E-4BF6E0546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2B3A8-BD56-414B-AFAE-B1E861B36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151369-F1C2-40AC-8C3E-71711D7013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5DB03-FF49-40C4-8A2A-CA040DEA2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D271D-601E-4BDC-A104-36EF5B423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89059-EEDE-4A62-9FA1-4FB4E6FB5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6B7A7-8DBF-42A7-88DB-7ED574BAB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CBBF2-2E9E-4BD3-8C4C-6EFCD3DE2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A29AA-5389-420B-9ABD-FE1E092A9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87B43-296A-4804-BE1F-61FBA45DD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B5776-7A5C-4BF5-88B9-6B67D4C30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F8E96-1B81-49AA-B0C9-FEEC0739C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47F50-331E-4BDE-93C8-93CE0EDAC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03A8BD-F029-4660-9C65-87C0F19223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10AE2-81DE-4B84-AB73-F6F83F3B1C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38B39E-CA3C-4FB5-910C-A252C2747E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3E0C62-1524-4361-8257-03B194B3AD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391CC3-2A43-441E-B9E6-D3B463EDFB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D68473-2958-4E4D-811A-A126D092B2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8BD239-008B-4E56-B28C-D692E0CA1C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4387F-7B35-4BBF-862D-DB19FB626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9629AE-D55F-4A65-8EBF-86FC0C16DF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245146-ED75-42AE-94B6-5FBB1EE4D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9A2703-D95D-4788-A231-1D444D0E2D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4FF1D6-CE09-4E18-BF6B-36CE977C99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C5AAE5-F797-4C45-BA01-66192F8D54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546E89-E5DD-441D-857F-2498EF93AD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34EFB6-A190-455D-8122-65F1993709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63D532-0FAF-4FA1-916A-3280BBD2F1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D0988E-2C14-42FC-BFF2-331AF53F52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89DBCD-F760-42D9-92E4-93DB8B2AE6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A3CC5-302F-4E4F-A8AF-6679E4335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E04D90-E861-41BD-812B-3B258CFB18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AB5A14-BCFD-4F6C-90B9-EADD932201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5F1186-95FF-40A5-A00F-A87FF3E149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D7F2A8-A819-4317-9871-90BA3CAC65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AE4D5D-DE53-402F-B0FE-65D2344262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2AFB55-F766-4E08-934D-62D10BAB05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3E6A35-4C50-497D-AF7B-E47EC67B6F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DA2B34-15A3-4247-A44F-396E3A5BF0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495E34-95A9-40BD-A4B6-FD11A6D3CC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8423EA-92F4-46C6-9680-70156612FA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7FC9A-A1D8-4FD4-B858-EC2BD32B4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D6D224-4C1C-456C-A3BB-EBCAEA7BF9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66B1F5-101B-4F41-856A-42D24F5200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AAF4E9-4F8C-4F74-98DF-24EE16F123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5AD09A-44A6-4411-9199-D692CDE1B2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44A9BB-EF4B-420D-A58C-D287511193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6D2A9A-3775-430F-9D1F-233B82EFC4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9EF565-13D4-44B8-80DC-91AD38081F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F47353-17EA-4A3E-9545-B17850A549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4CBB66-6396-46BD-AC52-4C6BF52D12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C9BDF9-0BAC-4068-8DF0-343E16109C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BDB95-549E-462A-947F-1680A0899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AC70D5-E157-4E7B-A70C-394AB34AAB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67F025-1F05-42EC-827C-C81431E59B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73E262-A554-4D85-88DE-D4375E8221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635D54-7A14-4410-AA19-C6D5F2CBED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357681-60AC-4120-A156-0FFBD6D3A4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2BCEE7-3418-454C-93DE-A089A0332B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853F23-FACE-4CC3-B313-28F5ECCA6A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00332A-383F-49D2-8F52-3C9A1E641B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FE944B-F050-4B2A-8389-836C5670B3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E4DA96-25A4-4C97-AA39-C2F3028949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351A8-ECD2-4EC5-B75A-357DA9E48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79EC8F-F25B-4CB3-B656-301831F2B3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FD6908-EBB2-49B1-B6A7-C6B258A6C0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B615B9-5873-4A94-AE1C-FDCAC7C10D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C1D584-B555-47A4-A4C4-1B73032ABF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BB9F81-8056-4426-AAA6-E6C692E303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67360D-3C18-4B87-86E5-6DCFCF83FD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915EA3-5B61-49E7-A8B2-33FD9A755C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FCAE89-F8F4-4C9C-802D-270029A3FB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49AB39-FBC7-468C-A044-579A48B839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1ECE19-5C07-463B-A407-673DC8F0DC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F87D9-60C7-41B1-B996-4E7B9F80B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C47788-8DDA-4E75-9B10-BA80AAA956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503930-EEFE-4EFB-91C3-A9FCC8CC27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F9438F-4389-4DFB-B115-2E3859F435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4C04EA-20E8-431D-A5A7-02D33DCDC6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8DEC92-AF90-43F1-B31D-BE96C3D611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9CC6FD-05C8-458F-9958-6A69AD9387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455F95-E642-4259-AAA5-DF4D2C5815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F1352F-757C-4D16-8EBE-BA808881DF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CC430A-F995-427E-8E5A-5826EE4AE7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A1AD12-6B46-4041-B9DC-F278EF5F86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9A6B9-8779-46DD-BDD3-262D0466B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8D1E09-C5AA-43BB-9676-2D3399083B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95A9AD-2C5F-42D2-BB5F-9931E282B1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25F4EB-11E4-4484-A7A4-C26A2D43EA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34171F-387C-4AB9-A762-D9E2A57BBD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E8B46D-7EBC-4861-887B-BE02BC2216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5FC1A8-4EC9-4DC1-90A9-EAB67D830B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9DD978-17B1-4521-AD53-BFBCF5B71C3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2461-0212-4C4F-8D30-DC7C48FCC9C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63C95-754C-49D8-816E-A7631CB7DB0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2E82E-A764-4EE5-A979-7637D4E046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0771-D480-47CD-9977-E03AB7E5DB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FCEA-12A3-488C-9105-97AB3D771B0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831F-69B7-4D76-8D4D-BE806C4897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201F-E640-4826-957D-14704F11DFB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678A4-74CA-4385-8DB4-222B64891BA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en.wikipedia.org/wiki/Image:ObamaBarack.jpg" TargetMode="External"/><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AutoShape 2" descr=""/>
          <p:cNvPicPr/>
          <p:nvPr/>
        </p:nvPicPr>
        <p:blipFill>
          <a:blip r:embed="rId1"/>
          <a:stretch/>
        </p:blipFill>
        <p:spPr>
          <a:xfrm>
            <a:off x="682560" y="1749600"/>
            <a:ext cx="827244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Chapter 1: </a:t>
            </a:r>
            <a:r>
              <a:rPr b="0" lang="en-US" sz="2400" spc="-1" strike="noStrike">
                <a:solidFill>
                  <a:srgbClr val="464646"/>
                </a:solidFill>
                <a:latin typeface="Lucida Sans Unicode"/>
              </a:rPr>
              <a:t>Everything Is an Argumen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838080" y="1599840"/>
            <a:ext cx="7848720" cy="52578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t>
            </a:r>
            <a:r>
              <a:rPr b="0" lang="en-US" sz="2000" spc="-1" strike="noStrike">
                <a:solidFill>
                  <a:srgbClr val="000000"/>
                </a:solidFill>
                <a:latin typeface="Lucida Sans Unicode"/>
              </a:rPr>
              <a:t>This is an exploratory column, its purpose to encourage thought on a question that badly needs thinking about.</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i="1" lang="en-US" sz="2000" spc="-1" strike="noStrike">
                <a:solidFill>
                  <a:srgbClr val="000000"/>
                </a:solidFill>
                <a:latin typeface="Lucida Sans Unicode"/>
              </a:rPr>
              <a:t>The Problem</a:t>
            </a:r>
            <a:r>
              <a:rPr b="0" lang="en-US" sz="2000" spc="-1" strike="noStrike">
                <a:solidFill>
                  <a:srgbClr val="000000"/>
                </a:solidFill>
                <a:latin typeface="Lucida Sans Unicode"/>
              </a:rPr>
              <a:t>: The birth every year of one million babies to unwed mothers.</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i="1" lang="en-US" sz="2000" spc="-1" strike="noStrike">
                <a:solidFill>
                  <a:srgbClr val="000000"/>
                </a:solidFill>
                <a:latin typeface="Lucida Sans Unicode"/>
              </a:rPr>
              <a:t>The Consequence</a:t>
            </a:r>
            <a:r>
              <a:rPr b="0" lang="en-US" sz="2000" spc="-1" strike="noStrike">
                <a:solidFill>
                  <a:srgbClr val="000000"/>
                </a:solidFill>
                <a:latin typeface="Lucida Sans Unicode"/>
              </a:rPr>
              <a:t>:  One million children who, on reaching the age of 13, tend to run into difficulties.  The statistics tell us that a child raised by a single parent is likelier by a factor of 600 percent to commit crimes, consume drugs, quit school, and bear, or sire, children out of wedlock.  Assume – if only to be hopeful – that the problems diminish after age 19; we are still left with six million teenagers who are a heavy social burden, as also, of course, a burden to themselves.”</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William F. Buckley</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a:t>
            </a:r>
            <a:r>
              <a:rPr b="0" lang="en-US" sz="2000" spc="-1" strike="noStrike">
                <a:solidFill>
                  <a:srgbClr val="000000"/>
                </a:solidFill>
                <a:latin typeface="Lucida Sans Unicode"/>
              </a:rPr>
              <a:t>Should There Be a Law?</a:t>
            </a:r>
            <a:endParaRPr b="0" lang="en-US" sz="2000" spc="-1" strike="noStrike">
              <a:solidFill>
                <a:srgbClr val="000000"/>
              </a:solidFill>
              <a:latin typeface="Lucida Sans Unicode"/>
            </a:endParaRPr>
          </a:p>
        </p:txBody>
      </p:sp>
      <p:pic>
        <p:nvPicPr>
          <p:cNvPr id="398"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blem does exist – writer or reader needs to solve i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ampl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t>
            </a:r>
            <a:r>
              <a:rPr b="0" lang="en-US" sz="2100" spc="-1" strike="noStrike">
                <a:solidFill>
                  <a:srgbClr val="000000"/>
                </a:solidFill>
                <a:latin typeface="Lucida Sans Unicode"/>
              </a:rPr>
              <a:t>We have a problem with litter on campus.”</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00"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osely allied with exploratory argu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e for a particular decis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ample:  </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rom the essay addressing soil erosion in Southeast Alabama, you might write a proposal which focuses on a possible solution to the problem.</a:t>
            </a:r>
            <a:endParaRPr b="0" lang="en-US" sz="2100" spc="-1" strike="noStrike">
              <a:solidFill>
                <a:srgbClr val="000000"/>
              </a:solidFill>
              <a:latin typeface="Lucida Sans Unicode"/>
            </a:endParaRPr>
          </a:p>
        </p:txBody>
      </p:sp>
      <p:pic>
        <p:nvPicPr>
          <p:cNvPr id="402" name="AutoShape 2" descr=""/>
          <p:cNvPicPr/>
          <p:nvPr/>
        </p:nvPicPr>
        <p:blipFill>
          <a:blip r:embed="rId1"/>
          <a:stretch/>
        </p:blipFill>
        <p:spPr>
          <a:xfrm>
            <a:off x="255600" y="268200"/>
            <a:ext cx="843768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s can take form of meditation on a theme or of pray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using to consider or to gain peace of mi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urpos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 is hoping to transform something within to reach a peace of mind.</a:t>
            </a:r>
            <a:endParaRPr b="0" lang="en-US" sz="2300" spc="-1" strike="noStrike">
              <a:solidFill>
                <a:srgbClr val="000000"/>
              </a:solidFill>
              <a:latin typeface="Lucida Sans Unicode"/>
            </a:endParaRPr>
          </a:p>
        </p:txBody>
      </p:sp>
      <p:pic>
        <p:nvPicPr>
          <p:cNvPr id="40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AutoShape 2" descr=""/>
          <p:cNvPicPr/>
          <p:nvPr/>
        </p:nvPicPr>
        <p:blipFill>
          <a:blip r:embed="rId1"/>
          <a:stretch/>
        </p:blipFill>
        <p:spPr>
          <a:xfrm>
            <a:off x="725400" y="1060560"/>
            <a:ext cx="8047080" cy="435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u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a:t>
            </a:r>
            <a:endParaRPr b="0" lang="en-US" sz="2700" spc="-1" strike="noStrike">
              <a:solidFill>
                <a:srgbClr val="000000"/>
              </a:solidFill>
              <a:latin typeface="Lucida Sans Unicode"/>
            </a:endParaRPr>
          </a:p>
        </p:txBody>
      </p:sp>
      <p:pic>
        <p:nvPicPr>
          <p:cNvPr id="40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Forensic</a:t>
            </a:r>
            <a:r>
              <a:rPr b="0" lang="en-US" sz="2700" spc="-1" strike="noStrike">
                <a:solidFill>
                  <a:srgbClr val="000000"/>
                </a:solidFill>
                <a:latin typeface="Lucida Sans Unicode"/>
              </a:rPr>
              <a:t> arguments: debates about what has happened in the pas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esent evidence from past to justify conclusio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ly heavily on precedents – actions or decisions in past that influence policies or decisions in the presen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xample: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a:t>
            </a:r>
            <a:r>
              <a:rPr b="0" lang="en-US" sz="1900" spc="-1" strike="noStrike">
                <a:solidFill>
                  <a:srgbClr val="000000"/>
                </a:solidFill>
                <a:latin typeface="Lucida Sans Unicode"/>
              </a:rPr>
              <a:t>Years of clear-cutting timber without replanting has led to the current problem of soil erosion in SE Alabama.”</a:t>
            </a:r>
            <a:endParaRPr b="0" lang="en-US" sz="1900" spc="-1" strike="noStrike">
              <a:solidFill>
                <a:srgbClr val="000000"/>
              </a:solidFill>
              <a:latin typeface="Lucida Sans Unicode"/>
            </a:endParaRPr>
          </a:p>
        </p:txBody>
      </p:sp>
      <p:pic>
        <p:nvPicPr>
          <p:cNvPr id="40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Deliberative</a:t>
            </a:r>
            <a:r>
              <a:rPr b="0" lang="en-US" sz="2700" spc="-1" strike="noStrike">
                <a:solidFill>
                  <a:srgbClr val="000000"/>
                </a:solidFill>
                <a:latin typeface="Lucida Sans Unicode"/>
              </a:rPr>
              <a:t> argument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ften rely on forensic arguments because what happened in the past usually decides what will happen in the future. </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ke some kind of decision (proposals)</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ry to establish policies or project future outcomes</a:t>
            </a:r>
            <a:endParaRPr b="0" lang="en-US" sz="2100" spc="-1" strike="noStrike">
              <a:solidFill>
                <a:srgbClr val="000000"/>
              </a:solidFill>
              <a:latin typeface="Lucida Sans Unicode"/>
            </a:endParaRPr>
          </a:p>
        </p:txBody>
      </p:sp>
      <p:pic>
        <p:nvPicPr>
          <p:cNvPr id="41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pideictic or Ceremonial Argum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ts aim: to condemn or to eulogize an individual, cause, occasion, movement, city, or state.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ten about contemporary valu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thical premises/assumptions widely held within a society</a:t>
            </a:r>
            <a:endParaRPr b="0" lang="en-US" sz="2300" spc="-1" strike="noStrike">
              <a:solidFill>
                <a:srgbClr val="000000"/>
              </a:solidFill>
              <a:latin typeface="Lucida Sans Unicode"/>
            </a:endParaRPr>
          </a:p>
        </p:txBody>
      </p:sp>
      <p:pic>
        <p:nvPicPr>
          <p:cNvPr id="41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838080" y="2361960"/>
            <a:ext cx="37720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Fac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Defini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Evalua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Unicode"/>
              </a:rPr>
              <a:t>Proposal</a:t>
            </a:r>
            <a:r>
              <a:rPr b="0" lang="en-US" sz="2400" spc="-1" strike="noStrike">
                <a:solidFill>
                  <a:srgbClr val="ffffff"/>
                </a:solidFill>
                <a:latin typeface="Lucida Sans Unicode"/>
              </a:rPr>
              <a:t> Arguments</a:t>
            </a:r>
            <a:endParaRPr b="0" lang="en-US" sz="2400" spc="-1" strike="noStrike">
              <a:solidFill>
                <a:srgbClr val="ffffff"/>
              </a:solidFill>
              <a:latin typeface="Lucida Sans Unicode"/>
            </a:endParaRPr>
          </a:p>
        </p:txBody>
      </p:sp>
      <p:sp>
        <p:nvSpPr>
          <p:cNvPr id="415" name=""/>
          <p:cNvSpPr txBox="1"/>
          <p:nvPr/>
        </p:nvSpPr>
        <p:spPr>
          <a:xfrm>
            <a:off x="4759200" y="2361960"/>
            <a:ext cx="37720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id something happe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its nature?</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its quality?</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action should be taken?</a:t>
            </a:r>
            <a:endParaRPr b="0" lang="en-US" sz="2400" spc="-1" strike="noStrike">
              <a:solidFill>
                <a:srgbClr val="ffffff"/>
              </a:solidFill>
              <a:latin typeface="Lucida Sans Unicode"/>
            </a:endParaRPr>
          </a:p>
        </p:txBody>
      </p:sp>
      <p:pic>
        <p:nvPicPr>
          <p:cNvPr id="416"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r text is based on the following presump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an argument can be </a:t>
            </a:r>
            <a:r>
              <a:rPr b="0" i="1" lang="en-US" sz="2300" spc="-1" strike="noStrike">
                <a:solidFill>
                  <a:srgbClr val="000000"/>
                </a:solidFill>
                <a:latin typeface="Lucida Sans Unicode"/>
              </a:rPr>
              <a:t>any</a:t>
            </a:r>
            <a:r>
              <a:rPr b="0" lang="en-US" sz="2300" spc="-1" strike="noStrike">
                <a:solidFill>
                  <a:srgbClr val="000000"/>
                </a:solidFill>
                <a:latin typeface="Lucida Sans Unicode"/>
              </a:rPr>
              <a:t> text (whether written, spoken, or visual) that expresses a point of view.  </a:t>
            </a:r>
            <a:r>
              <a:rPr b="0" lang="en-US" sz="1800" spc="-1" strike="noStrike">
                <a:solidFill>
                  <a:srgbClr val="000000"/>
                </a:solidFill>
                <a:latin typeface="Lucida Sans Unicode"/>
              </a:rPr>
              <a:t>(p. 4)</a:t>
            </a:r>
            <a:endParaRPr b="0" lang="en-US" sz="1800" spc="-1" strike="noStrike">
              <a:solidFill>
                <a:srgbClr val="000000"/>
              </a:solidFill>
              <a:latin typeface="Lucida Sans Unicode"/>
            </a:endParaRPr>
          </a:p>
        </p:txBody>
      </p:sp>
      <p:pic>
        <p:nvPicPr>
          <p:cNvPr id="380"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acts can be proved or disproved with evidence or testimon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cern:  if something can easily be proven, it can’t be argued.</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Hyundai is significantly lower in price than Toyota.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Global warming is rapidly destroying the rain forests of South America.</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18"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ten involves categorizing or defining term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Is a </a:t>
            </a:r>
            <a:r>
              <a:rPr b="0" i="1" lang="en-US" sz="2300" spc="-1" strike="noStrike">
                <a:solidFill>
                  <a:srgbClr val="000000"/>
                </a:solidFill>
                <a:latin typeface="Lucida Sans Unicode"/>
              </a:rPr>
              <a:t>human</a:t>
            </a:r>
            <a:r>
              <a:rPr b="0" lang="en-US" sz="2300" spc="-1" strike="noStrike">
                <a:solidFill>
                  <a:srgbClr val="000000"/>
                </a:solidFill>
                <a:latin typeface="Lucida Sans Unicode"/>
              </a:rPr>
              <a:t> </a:t>
            </a:r>
            <a:r>
              <a:rPr b="0" i="1" lang="en-US" sz="2300" spc="-1" strike="noStrike">
                <a:solidFill>
                  <a:srgbClr val="464646"/>
                </a:solidFill>
                <a:latin typeface="Lucida Sans Unicode"/>
              </a:rPr>
              <a:t>embryo</a:t>
            </a:r>
            <a:r>
              <a:rPr b="0" lang="en-US" sz="2300" spc="-1" strike="noStrike">
                <a:solidFill>
                  <a:srgbClr val="000000"/>
                </a:solidFill>
                <a:latin typeface="Lucida Sans Unicode"/>
              </a:rPr>
              <a:t> a </a:t>
            </a:r>
            <a:r>
              <a:rPr b="0" i="1" lang="en-US" sz="2300" spc="-1" strike="noStrike">
                <a:solidFill>
                  <a:srgbClr val="464646"/>
                </a:solidFill>
                <a:latin typeface="Lucida Sans Unicode"/>
              </a:rPr>
              <a:t>human being</a:t>
            </a: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Is </a:t>
            </a:r>
            <a:r>
              <a:rPr b="0" i="1" lang="en-US" sz="2300" spc="-1" strike="noStrike">
                <a:solidFill>
                  <a:srgbClr val="464646"/>
                </a:solidFill>
                <a:latin typeface="Lucida Sans Unicode"/>
              </a:rPr>
              <a:t>abortion</a:t>
            </a:r>
            <a:r>
              <a:rPr b="0" lang="en-US" sz="2300" spc="-1" strike="noStrike">
                <a:solidFill>
                  <a:srgbClr val="000000"/>
                </a:solidFill>
                <a:latin typeface="Lucida Sans Unicode"/>
              </a:rPr>
              <a:t> </a:t>
            </a:r>
            <a:r>
              <a:rPr b="0" i="1" lang="en-US" sz="2300" spc="-1" strike="noStrike">
                <a:solidFill>
                  <a:srgbClr val="464646"/>
                </a:solidFill>
                <a:latin typeface="Lucida Sans Unicode"/>
              </a:rPr>
              <a:t>murder</a:t>
            </a: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ob Costas example (pg. 24)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ickey Mantle eulogy</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ROLE MODEL </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HERO</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0"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type of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 of qualit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kes some kind of judgment about topic</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ahoe vs. Expedition: which is the better SUV for the price?</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arks’ evaluation of Martin Luther King Jr. (pg. 26)</a:t>
            </a:r>
            <a:endParaRPr b="0" lang="en-US" sz="21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22"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 evidence to show there is a problem; then, propose a solu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commend most viable course of action.</a:t>
            </a:r>
            <a:endParaRPr b="0" lang="en-US" sz="2700" spc="-1" strike="noStrike">
              <a:solidFill>
                <a:srgbClr val="000000"/>
              </a:solidFill>
              <a:latin typeface="Lucida Sans Unicode"/>
            </a:endParaRPr>
          </a:p>
        </p:txBody>
      </p:sp>
      <p:pic>
        <p:nvPicPr>
          <p:cNvPr id="42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38080" y="2362320"/>
            <a:ext cx="3772080" cy="39621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Fac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Defini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Evalua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Unicode"/>
              </a:rPr>
              <a:t>Proposal</a:t>
            </a:r>
            <a:r>
              <a:rPr b="0" lang="en-US" sz="2400" spc="-1" strike="noStrike">
                <a:solidFill>
                  <a:srgbClr val="ffffff"/>
                </a:solidFill>
                <a:latin typeface="Lucida Sans Unicode"/>
              </a:rPr>
              <a:t> Argument</a:t>
            </a:r>
            <a:endParaRPr b="0" lang="en-US" sz="2400" spc="-1" strike="noStrike">
              <a:solidFill>
                <a:srgbClr val="ffffff"/>
              </a:solidFill>
              <a:latin typeface="Lucida Sans Unicode"/>
            </a:endParaRPr>
          </a:p>
        </p:txBody>
      </p:sp>
      <p:sp>
        <p:nvSpPr>
          <p:cNvPr id="426" name=""/>
          <p:cNvSpPr txBox="1"/>
          <p:nvPr/>
        </p:nvSpPr>
        <p:spPr>
          <a:xfrm>
            <a:off x="4759200" y="2362320"/>
            <a:ext cx="3772080" cy="4038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oes global warming exis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global warming?</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ould global warming be a concern to us today?</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action should be taken to stop global warming?</a:t>
            </a:r>
            <a:endParaRPr b="0" lang="en-US" sz="2400" spc="-1" strike="noStrike">
              <a:solidFill>
                <a:srgbClr val="ffffff"/>
              </a:solidFill>
              <a:latin typeface="Lucida Sans Unicode"/>
            </a:endParaRPr>
          </a:p>
        </p:txBody>
      </p:sp>
      <p:pic>
        <p:nvPicPr>
          <p:cNvPr id="42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ing a Connection to Reade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s do not write in a cultural vacuum.</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s’ works are influenced by </a:t>
            </a:r>
            <a:r>
              <a:rPr b="0" i="1" lang="en-US" sz="2300" spc="-1" strike="noStrike">
                <a:solidFill>
                  <a:srgbClr val="000000"/>
                </a:solidFill>
                <a:latin typeface="Lucida Sans Unicode"/>
              </a:rPr>
              <a:t>who</a:t>
            </a:r>
            <a:r>
              <a:rPr b="0" lang="en-US" sz="2300" spc="-1" strike="noStrike">
                <a:solidFill>
                  <a:srgbClr val="000000"/>
                </a:solidFill>
                <a:latin typeface="Lucida Sans Unicode"/>
              </a:rPr>
              <a:t> they ar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ace</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eligion</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Gender</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thnicity</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lass</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telligence</a:t>
            </a:r>
            <a:endParaRPr b="0" lang="en-US" sz="18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2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aders’ perceptions of writer influence their reception of what has been writt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think about readers’ perceptions, values, possible prejudi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stablish some connection with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amiliarity</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esenting yourself as authority</a:t>
            </a:r>
            <a:endParaRPr b="0" lang="en-US" sz="2300" spc="-1" strike="noStrike">
              <a:solidFill>
                <a:srgbClr val="000000"/>
              </a:solidFill>
              <a:latin typeface="Lucida Sans Unicode"/>
            </a:endParaRPr>
          </a:p>
        </p:txBody>
      </p:sp>
      <p:pic>
        <p:nvPicPr>
          <p:cNvPr id="431" name="AutoShape 2" descr=""/>
          <p:cNvPicPr/>
          <p:nvPr/>
        </p:nvPicPr>
        <p:blipFill>
          <a:blip r:embed="rId1"/>
          <a:stretch/>
        </p:blipFill>
        <p:spPr>
          <a:xfrm>
            <a:off x="195120" y="268200"/>
            <a:ext cx="863784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914040" y="1599840"/>
            <a:ext cx="7924680" cy="5257800"/>
          </a:xfrm>
          <a:prstGeom prst="rect">
            <a:avLst/>
          </a:prstGeom>
          <a:noFill/>
          <a:ln w="0">
            <a:noFill/>
          </a:ln>
        </p:spPr>
        <p:txBody>
          <a:bodyPr anchor="t">
            <a:normAutofit/>
          </a:bodyPr>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Look at me!  Look at my arm!  I have ploughe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d planted, and gathered into barns, and no</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n could head me.  And ain’t I a woman?... I</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ve borne thirteen children, and seen most all</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ld off to slavery, and when I cried out with my</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other’s grief, none but Jesus heard me.  An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in’t I a woman?”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Sojourner Truth</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a:t>
            </a:r>
            <a:r>
              <a:rPr b="0" lang="en-US" sz="2300" spc="-1" strike="noStrike">
                <a:solidFill>
                  <a:srgbClr val="000000"/>
                </a:solidFill>
                <a:latin typeface="Lucida Sans Unicode"/>
              </a:rPr>
              <a:t>Ain’t I a Woman?”</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3" name="AutoShape 2" descr=""/>
          <p:cNvPicPr/>
          <p:nvPr/>
        </p:nvPicPr>
        <p:blipFill>
          <a:blip r:embed="rId1"/>
          <a:stretch/>
        </p:blipFill>
        <p:spPr>
          <a:xfrm>
            <a:off x="195120" y="268200"/>
            <a:ext cx="8637840" cy="115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istotle identified 3 key ways writers can appeal to their audiences in argum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Path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motional appeals or appeals to the heart</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th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thical appeals or appeals based on the writer’s authority and credibility</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Log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ogical appeals or appeals to reason</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685440" y="1752120"/>
            <a:ext cx="8001000" cy="44960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signed to appeal to the readers’ emotions and feeling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 cause readers to think more carefully about subjec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suading reader not to drink and driv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lling a story of a teen or young mother killed by drunk driver</a:t>
            </a:r>
            <a:endParaRPr b="0" lang="en-US" sz="2100" spc="-1" strike="noStrike">
              <a:solidFill>
                <a:srgbClr val="000000"/>
              </a:solidFill>
              <a:latin typeface="Lucida Sans Unicode"/>
            </a:endParaRPr>
          </a:p>
        </p:txBody>
      </p:sp>
      <p:pic>
        <p:nvPicPr>
          <p:cNvPr id="43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for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vinc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lo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e Decis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ditate/Pray</a:t>
            </a:r>
            <a:endParaRPr b="0" lang="en-US" sz="2700" spc="-1" strike="noStrike">
              <a:solidFill>
                <a:srgbClr val="000000"/>
              </a:solidFill>
              <a:latin typeface="Lucida Sans Unicode"/>
            </a:endParaRPr>
          </a:p>
        </p:txBody>
      </p:sp>
      <p:pic>
        <p:nvPicPr>
          <p:cNvPr id="382"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914040" y="1676520"/>
            <a:ext cx="8001000" cy="49528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 writer, must seem honest, sincere, and trustworth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for evidence of character in arguments</a:t>
            </a:r>
            <a:endParaRPr b="0" lang="en-US" sz="27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ho is the author?</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s writer an authority on topic/knowledgeable about topic?</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s evidence presented full/complete, not slanted to writer’s agenda?</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oes  writer acknowledge and address opposition?</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re sources documented?</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REMEMBER: these same questions will be used to analyze your writings.</a:t>
            </a:r>
            <a:endParaRPr b="0" lang="en-US" sz="2100" spc="-1" strike="noStrike">
              <a:solidFill>
                <a:srgbClr val="000000"/>
              </a:solidFill>
              <a:latin typeface="Lucida Sans Unicode"/>
            </a:endParaRPr>
          </a:p>
        </p:txBody>
      </p:sp>
      <p:pic>
        <p:nvPicPr>
          <p:cNvPr id="43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914040" y="2362320"/>
            <a:ext cx="800100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 author, you must conside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anguag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ganization &amp; structur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nse of authority</a:t>
            </a:r>
            <a:endParaRPr b="0" lang="en-US" sz="2300" spc="-1" strike="noStrike">
              <a:solidFill>
                <a:srgbClr val="000000"/>
              </a:solidFill>
              <a:latin typeface="Lucida Sans Unicode"/>
            </a:endParaRPr>
          </a:p>
        </p:txBody>
      </p:sp>
      <p:pic>
        <p:nvPicPr>
          <p:cNvPr id="44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riter must provide enough </a:t>
            </a:r>
            <a:r>
              <a:rPr b="1" lang="en-US" sz="2700" spc="-1" strike="noStrike">
                <a:solidFill>
                  <a:srgbClr val="000000"/>
                </a:solidFill>
                <a:latin typeface="Lucida Sans Unicode"/>
              </a:rPr>
              <a:t>evidence</a:t>
            </a:r>
            <a:r>
              <a:rPr b="0" lang="en-US" sz="2700" spc="-1" strike="noStrike">
                <a:solidFill>
                  <a:srgbClr val="000000"/>
                </a:solidFill>
                <a:latin typeface="Lucida Sans Unicode"/>
              </a:rPr>
              <a:t> to support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st all assumptions and </a:t>
            </a:r>
            <a:r>
              <a:rPr b="1" lang="en-US" sz="2700" spc="-1" strike="noStrike">
                <a:solidFill>
                  <a:srgbClr val="000000"/>
                </a:solidFill>
                <a:latin typeface="Lucida Sans Unicode"/>
              </a:rPr>
              <a:t>claim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stion every source and authority cite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ata and information from </a:t>
            </a:r>
            <a:r>
              <a:rPr b="0" i="1" lang="en-US" sz="2300" spc="-1" strike="noStrike">
                <a:solidFill>
                  <a:srgbClr val="000000"/>
                </a:solidFill>
                <a:latin typeface="Lucida Sans Unicode"/>
              </a:rPr>
              <a:t>reliable</a:t>
            </a:r>
            <a:r>
              <a:rPr b="0" lang="en-US" sz="2300" spc="-1" strike="noStrike">
                <a:solidFill>
                  <a:srgbClr val="000000"/>
                </a:solidFill>
                <a:latin typeface="Lucida Sans Unicode"/>
              </a:rPr>
              <a:t> sources</a:t>
            </a:r>
            <a:endParaRPr b="0" lang="en-US" sz="2300" spc="-1" strike="noStrike">
              <a:solidFill>
                <a:srgbClr val="000000"/>
              </a:solidFill>
              <a:latin typeface="Lucida Sans Unicode"/>
            </a:endParaRPr>
          </a:p>
        </p:txBody>
      </p:sp>
      <p:pic>
        <p:nvPicPr>
          <p:cNvPr id="443" name="AutoShape 2" descr=""/>
          <p:cNvPicPr/>
          <p:nvPr/>
        </p:nvPicPr>
        <p:blipFill>
          <a:blip r:embed="rId1"/>
          <a:stretch/>
        </p:blipFill>
        <p:spPr>
          <a:xfrm>
            <a:off x="255600" y="268200"/>
            <a:ext cx="8437680" cy="115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685440" y="1600200"/>
            <a:ext cx="800100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laim</a:t>
            </a:r>
            <a:r>
              <a:rPr b="0" lang="en-US" sz="2700" spc="-1" strike="noStrike">
                <a:solidFill>
                  <a:srgbClr val="000000"/>
                </a:solidFill>
                <a:latin typeface="Lucida Sans Unicode"/>
              </a:rPr>
              <a:t>: statement of belief or truth</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be plainly stated (more traditional argumen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be inferred (in stories, anecdotes, etc.).</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ims must be attached to reasons that support it and premises that uphold it to be an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 have several claims in one essa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ok at relationship among them</a:t>
            </a:r>
            <a:endParaRPr b="0" lang="en-US" sz="2300" spc="-1" strike="noStrike">
              <a:solidFill>
                <a:srgbClr val="000000"/>
              </a:solidFill>
              <a:latin typeface="Lucida Sans Unicode"/>
            </a:endParaRPr>
          </a:p>
        </p:txBody>
      </p:sp>
      <p:pic>
        <p:nvPicPr>
          <p:cNvPr id="44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s must have logical structure, even if appeal uses emotion, values, or charact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istotle asserted arguments had only 2 par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atement                          (claim)</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of                                  (evidence)</a:t>
            </a:r>
            <a:endParaRPr b="0" lang="en-US" sz="2300" spc="-1" strike="noStrike">
              <a:solidFill>
                <a:srgbClr val="000000"/>
              </a:solidFill>
              <a:latin typeface="Lucida Sans Unicode"/>
            </a:endParaRPr>
          </a:p>
        </p:txBody>
      </p:sp>
      <p:pic>
        <p:nvPicPr>
          <p:cNvPr id="44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685440" y="1600200"/>
            <a:ext cx="8001000" cy="44956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ve to think of the way the evidence is presente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n logical, well-planned argument can be boring.</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ve to tailor your style to the topic</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is most appropriate</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yle can tell readers what to expect</a:t>
            </a:r>
            <a:endParaRPr b="0" lang="en-US" sz="2700" spc="-1" strike="noStrike">
              <a:solidFill>
                <a:srgbClr val="000000"/>
              </a:solidFill>
              <a:latin typeface="Lucida Sans Unicode"/>
            </a:endParaRPr>
          </a:p>
        </p:txBody>
      </p:sp>
      <p:pic>
        <p:nvPicPr>
          <p:cNvPr id="44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always think about audience or readers when you present argu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always address an intended audience.</a:t>
            </a:r>
            <a:endParaRPr b="0" lang="en-US" sz="2700" spc="-1" strike="noStrike">
              <a:solidFill>
                <a:srgbClr val="000000"/>
              </a:solidFill>
              <a:latin typeface="Lucida Sans Unicode"/>
            </a:endParaRPr>
          </a:p>
        </p:txBody>
      </p:sp>
      <p:pic>
        <p:nvPicPr>
          <p:cNvPr id="45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fferent kinds of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deal reader (exists in author’s min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voked reader (represented in the tex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l reader (ones who actually read text)</a:t>
            </a:r>
            <a:endParaRPr b="0" lang="en-US" sz="2300" spc="-1" strike="noStrike">
              <a:solidFill>
                <a:srgbClr val="000000"/>
              </a:solidFill>
              <a:latin typeface="Lucida Sans Unicode"/>
            </a:endParaRPr>
          </a:p>
        </p:txBody>
      </p:sp>
      <p:pic>
        <p:nvPicPr>
          <p:cNvPr id="45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potential readers do not feel connected to text in some way, the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will (probably) not be affected by your argument  or</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will not even continue to rea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5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ays to establish credibilit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monstrate you are knowledgeabl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light shared valu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fer to common experienc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 language to build common groun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spect reader</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most impossible to guarantee credibility because readers are varied.</a:t>
            </a:r>
            <a:endParaRPr b="0" lang="en-US" sz="2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5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ing specific information to inform rea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 is on the </a:t>
            </a:r>
            <a:r>
              <a:rPr b="1" lang="en-US" sz="2700" spc="-1" strike="noStrike">
                <a:solidFill>
                  <a:srgbClr val="000000"/>
                </a:solidFill>
                <a:latin typeface="Lucida Sans Unicode"/>
              </a:rPr>
              <a:t>informa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monstrate Knowledg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how readers you know what you are talking abou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acts/statistics</a:t>
            </a:r>
            <a:endParaRPr b="0" lang="en-US" sz="2100" spc="-1" strike="noStrike">
              <a:solidFill>
                <a:srgbClr val="000000"/>
              </a:solidFill>
              <a:latin typeface="Lucida Sans Unicode"/>
            </a:endParaRPr>
          </a:p>
        </p:txBody>
      </p:sp>
      <p:pic>
        <p:nvPicPr>
          <p:cNvPr id="45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ighlight Shared Valu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ind common values with the potential reader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hat community do you share?</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fer to Common Experien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ild Common Groun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losely related to common experienc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stablish a connection with reader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se pronouns</a:t>
            </a:r>
            <a:endParaRPr b="0" lang="en-US" sz="2100" spc="-1" strike="noStrike">
              <a:solidFill>
                <a:srgbClr val="000000"/>
              </a:solidFill>
              <a:latin typeface="Lucida Sans Unicode"/>
            </a:endParaRPr>
          </a:p>
        </p:txBody>
      </p:sp>
      <p:pic>
        <p:nvPicPr>
          <p:cNvPr id="46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pect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 not speak down to reader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 not use offensive language</a:t>
            </a:r>
            <a:endParaRPr b="0" lang="en-US" sz="2300" spc="-1" strike="noStrike">
              <a:solidFill>
                <a:srgbClr val="000000"/>
              </a:solidFill>
              <a:latin typeface="Lucida Sans Unicode"/>
            </a:endParaRPr>
          </a:p>
        </p:txBody>
      </p:sp>
      <p:pic>
        <p:nvPicPr>
          <p:cNvPr id="46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rgument exists in a particular context of some kind that influences how it can be shaped and how others receive it.</a:t>
            </a:r>
            <a:endParaRPr b="0" lang="en-US" sz="2800" spc="-1" strike="noStrike">
              <a:solidFill>
                <a:srgbClr val="000000"/>
              </a:solidFill>
              <a:latin typeface="Lucida Sans Unicode"/>
            </a:endParaRPr>
          </a:p>
        </p:txBody>
      </p:sp>
      <p:pic>
        <p:nvPicPr>
          <p:cNvPr id="465" name="Rectangle 2" descr=""/>
          <p:cNvPicPr/>
          <p:nvPr/>
        </p:nvPicPr>
        <p:blipFill>
          <a:blip r:embed="rId1"/>
          <a:stretch/>
        </p:blipFill>
        <p:spPr>
          <a:xfrm>
            <a:off x="195120" y="268200"/>
            <a:ext cx="8498160" cy="1158840"/>
          </a:xfrm>
          <a:prstGeom prst="rect">
            <a:avLst/>
          </a:prstGeom>
          <a:ln w="0">
            <a:noFill/>
          </a:ln>
        </p:spPr>
      </p:pic>
      <p:sp>
        <p:nvSpPr>
          <p:cNvPr id="466" name="Oval 4"/>
          <p:cNvSpPr/>
          <p:nvPr/>
        </p:nvSpPr>
        <p:spPr>
          <a:xfrm>
            <a:off x="3200400" y="3733920"/>
            <a:ext cx="236232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p:txBody>
      </p:sp>
      <p:sp>
        <p:nvSpPr>
          <p:cNvPr id="467" name="AutoShape 5"/>
          <p:cNvSpPr/>
          <p:nvPr/>
        </p:nvSpPr>
        <p:spPr>
          <a:xfrm>
            <a:off x="3505320" y="3733920"/>
            <a:ext cx="1752480" cy="190476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7"/>
          <p:cNvSpPr/>
          <p:nvPr/>
        </p:nvSpPr>
        <p:spPr>
          <a:xfrm>
            <a:off x="3432960" y="3124080"/>
            <a:ext cx="194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pic/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Appeals)</a:t>
            </a:r>
            <a:endParaRPr b="0" lang="en-US" sz="1800" spc="-1" strike="noStrike">
              <a:solidFill>
                <a:srgbClr val="000000"/>
              </a:solidFill>
              <a:latin typeface="Arial"/>
            </a:endParaRPr>
          </a:p>
        </p:txBody>
      </p:sp>
      <p:sp>
        <p:nvSpPr>
          <p:cNvPr id="469" name="Text Box 8"/>
          <p:cNvSpPr/>
          <p:nvPr/>
        </p:nvSpPr>
        <p:spPr>
          <a:xfrm>
            <a:off x="1299240" y="5638680"/>
            <a:ext cx="223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dience/Read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Appeals)</a:t>
            </a:r>
            <a:endParaRPr b="0" lang="en-US" sz="1800" spc="-1" strike="noStrike">
              <a:solidFill>
                <a:srgbClr val="000000"/>
              </a:solidFill>
              <a:latin typeface="Arial"/>
            </a:endParaRPr>
          </a:p>
        </p:txBody>
      </p:sp>
      <p:sp>
        <p:nvSpPr>
          <p:cNvPr id="470" name="Text Box 9"/>
          <p:cNvSpPr/>
          <p:nvPr/>
        </p:nvSpPr>
        <p:spPr>
          <a:xfrm>
            <a:off x="5413680" y="5638680"/>
            <a:ext cx="190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al Appe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endParaRPr b="0" lang="en-US" sz="2800" spc="-1" strike="noStrike">
              <a:solidFill>
                <a:srgbClr val="000000"/>
              </a:solidFill>
              <a:latin typeface="Lucida Sans Unicode"/>
            </a:endParaRPr>
          </a:p>
        </p:txBody>
      </p:sp>
      <p:pic>
        <p:nvPicPr>
          <p:cNvPr id="472" name="Rectangle 2" descr=""/>
          <p:cNvPicPr/>
          <p:nvPr/>
        </p:nvPicPr>
        <p:blipFill>
          <a:blip r:embed="rId1"/>
          <a:stretch/>
        </p:blipFill>
        <p:spPr>
          <a:xfrm>
            <a:off x="195120" y="268200"/>
            <a:ext cx="8498160" cy="1158840"/>
          </a:xfrm>
          <a:prstGeom prst="rect">
            <a:avLst/>
          </a:prstGeom>
          <a:ln w="0">
            <a:noFill/>
          </a:ln>
        </p:spPr>
      </p:pic>
      <p:sp>
        <p:nvSpPr>
          <p:cNvPr id="473" name="Oval 4"/>
          <p:cNvSpPr/>
          <p:nvPr/>
        </p:nvSpPr>
        <p:spPr>
          <a:xfrm>
            <a:off x="3124080" y="2895480"/>
            <a:ext cx="236232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5"/>
          <p:cNvSpPr/>
          <p:nvPr/>
        </p:nvSpPr>
        <p:spPr>
          <a:xfrm>
            <a:off x="3429000" y="2895480"/>
            <a:ext cx="1752480" cy="19051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
          <p:cNvSpPr/>
          <p:nvPr/>
        </p:nvSpPr>
        <p:spPr>
          <a:xfrm>
            <a:off x="3356640" y="1676520"/>
            <a:ext cx="194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pic/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LOGOS</a:t>
            </a:r>
            <a:endParaRPr b="0" lang="en-US" sz="1800" spc="-1" strike="noStrike">
              <a:solidFill>
                <a:srgbClr val="000000"/>
              </a:solidFill>
              <a:latin typeface="Arial"/>
            </a:endParaRPr>
          </a:p>
        </p:txBody>
      </p:sp>
      <p:sp>
        <p:nvSpPr>
          <p:cNvPr id="476" name="Text Box 7"/>
          <p:cNvSpPr/>
          <p:nvPr/>
        </p:nvSpPr>
        <p:spPr>
          <a:xfrm>
            <a:off x="1070640" y="4876920"/>
            <a:ext cx="2233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dience/Read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PATHOS</a:t>
            </a:r>
            <a:endParaRPr b="0" lang="en-US" sz="1800" spc="-1" strike="noStrike">
              <a:solidFill>
                <a:srgbClr val="000000"/>
              </a:solidFill>
              <a:latin typeface="Arial"/>
            </a:endParaRPr>
          </a:p>
        </p:txBody>
      </p:sp>
      <p:sp>
        <p:nvSpPr>
          <p:cNvPr id="477" name="Text Box 8"/>
          <p:cNvSpPr/>
          <p:nvPr/>
        </p:nvSpPr>
        <p:spPr>
          <a:xfrm>
            <a:off x="5337360" y="4952880"/>
            <a:ext cx="1904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th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000000"/>
                </a:solidFill>
                <a:latin typeface="Arial"/>
              </a:rPr>
              <a:t>ETH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5105520" y="2438280"/>
            <a:ext cx="3504960" cy="364824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Obama </a:t>
            </a:r>
            <a:endParaRPr b="0" lang="en-US" sz="4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for President</a:t>
            </a:r>
            <a:endParaRPr b="0" lang="en-US" sz="4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2008</a:t>
            </a:r>
            <a:endParaRPr b="0" lang="en-US" sz="4800" spc="-1" strike="noStrike">
              <a:solidFill>
                <a:srgbClr val="000000"/>
              </a:solidFill>
              <a:latin typeface="Lucida Sans Unicode"/>
            </a:endParaRPr>
          </a:p>
        </p:txBody>
      </p:sp>
      <p:pic>
        <p:nvPicPr>
          <p:cNvPr id="386" name="Title 1" descr=""/>
          <p:cNvPicPr/>
          <p:nvPr/>
        </p:nvPicPr>
        <p:blipFill>
          <a:blip r:embed="rId1"/>
          <a:stretch/>
        </p:blipFill>
        <p:spPr>
          <a:xfrm>
            <a:off x="195120" y="268200"/>
            <a:ext cx="8498160" cy="1158840"/>
          </a:xfrm>
          <a:prstGeom prst="rect">
            <a:avLst/>
          </a:prstGeom>
          <a:ln w="0">
            <a:noFill/>
          </a:ln>
        </p:spPr>
      </p:pic>
      <p:pic>
        <p:nvPicPr>
          <p:cNvPr id="387" name="Picture 6" descr="http://upload.wikimedia.org/wikipedia/commons/thumb/6/63/ObamaBarack.jpg/89px-ObamaBarack.jpg">
            <a:hlinkClick r:id="rId2"/>
          </p:cNvPr>
          <p:cNvPicPr/>
          <p:nvPr/>
        </p:nvPicPr>
        <p:blipFill>
          <a:blip r:embed="rId3"/>
          <a:stretch/>
        </p:blipFill>
        <p:spPr>
          <a:xfrm>
            <a:off x="1752480" y="1676520"/>
            <a:ext cx="3581640" cy="439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Rectangle 2" descr=""/>
          <p:cNvPicPr/>
          <p:nvPr/>
        </p:nvPicPr>
        <p:blipFill>
          <a:blip r:embed="rId1"/>
          <a:stretch/>
        </p:blipFill>
        <p:spPr>
          <a:xfrm>
            <a:off x="195120" y="268200"/>
            <a:ext cx="8498160" cy="1158840"/>
          </a:xfrm>
          <a:prstGeom prst="rect">
            <a:avLst/>
          </a:prstGeom>
          <a:ln w="0">
            <a:noFill/>
          </a:ln>
        </p:spPr>
      </p:pic>
      <p:pic>
        <p:nvPicPr>
          <p:cNvPr id="390" name="Picture 5" descr="20040917_shelter"/>
          <p:cNvPicPr/>
          <p:nvPr/>
        </p:nvPicPr>
        <p:blipFill>
          <a:blip r:embed="rId2"/>
          <a:stretch/>
        </p:blipFill>
        <p:spPr>
          <a:xfrm>
            <a:off x="4343400" y="1295280"/>
            <a:ext cx="4419720" cy="524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5" descr="Movie Poster Image for Braveheart"/>
          <p:cNvPicPr/>
          <p:nvPr/>
        </p:nvPicPr>
        <p:blipFill>
          <a:blip r:embed="rId1"/>
          <a:stretch/>
        </p:blipFill>
        <p:spPr>
          <a:xfrm>
            <a:off x="4419720" y="1017720"/>
            <a:ext cx="4038480" cy="5840280"/>
          </a:xfrm>
          <a:prstGeom prst="rect">
            <a:avLst/>
          </a:prstGeom>
          <a:ln w="0">
            <a:noFill/>
          </a:ln>
        </p:spPr>
      </p:pic>
      <p:pic>
        <p:nvPicPr>
          <p:cNvPr id="392" name="Tit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es on </a:t>
            </a:r>
            <a:r>
              <a:rPr b="1" lang="en-US" sz="2700" spc="-1" strike="noStrike">
                <a:solidFill>
                  <a:srgbClr val="000000"/>
                </a:solidFill>
                <a:latin typeface="Lucida Sans Unicode"/>
              </a:rPr>
              <a:t>readers</a:t>
            </a:r>
            <a:r>
              <a:rPr b="0" lang="en-US" sz="2700" spc="-1" strike="noStrike">
                <a:solidFill>
                  <a:srgbClr val="000000"/>
                </a:solidFill>
                <a:latin typeface="Lucida Sans Unicode"/>
              </a:rPr>
              <a:t> –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rying to satisfy or convince them that you have thoroughly examined and presented information that merits attention.</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xample: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riting a research essay  on the causes of soil erosion in southeast Alabama </a:t>
            </a:r>
            <a:endParaRPr b="0" lang="en-US" sz="1900" spc="-1" strike="noStrike">
              <a:solidFill>
                <a:srgbClr val="000000"/>
              </a:solidFill>
              <a:latin typeface="Lucida Sans Unicode"/>
            </a:endParaRPr>
          </a:p>
        </p:txBody>
      </p:sp>
      <p:pic>
        <p:nvPicPr>
          <p:cNvPr id="394" name="AutoShape 1026"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ually show that there is merit in looking into a subject – that there is an argument to be mad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Opponent” can be the </a:t>
            </a:r>
            <a:r>
              <a:rPr b="0" i="1" lang="en-US" sz="2700" spc="-1" strike="noStrike">
                <a:solidFill>
                  <a:srgbClr val="000000"/>
                </a:solidFill>
                <a:latin typeface="Lucida Sans Unicode"/>
              </a:rPr>
              <a:t>status quo</a:t>
            </a:r>
            <a:r>
              <a:rPr b="0" lang="en-US" sz="2700" spc="-1" strike="noStrike">
                <a:solidFill>
                  <a:srgbClr val="000000"/>
                </a:solidFill>
                <a:latin typeface="Lucida Sans Unicode"/>
              </a:rPr>
              <a:t> or current tre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blem does exist – writer or reader needs to solve it.</a:t>
            </a:r>
            <a:endParaRPr b="0" lang="en-US" sz="2700" spc="-1" strike="noStrike">
              <a:solidFill>
                <a:srgbClr val="000000"/>
              </a:solidFill>
              <a:latin typeface="Lucida Sans Unicode"/>
            </a:endParaRPr>
          </a:p>
        </p:txBody>
      </p:sp>
      <p:pic>
        <p:nvPicPr>
          <p:cNvPr id="396"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2:32:23Z</dcterms:created>
  <dc:creator>Cindy Warmack</dc:creator>
  <dc:description/>
  <dc:language>en-US</dc:language>
  <cp:lastModifiedBy>DCPS</cp:lastModifiedBy>
  <dcterms:modified xsi:type="dcterms:W3CDTF">2011-04-18T19:09:47Z</dcterms:modified>
  <cp:revision>19</cp:revision>
  <dc:subject/>
  <dc:title>Everything’s An Argument</dc:title>
</cp:coreProperties>
</file>