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8.png" ContentType="image/png"/>
  <Override PartName="/ppt/media/image38.png" ContentType="image/png"/>
  <Override PartName="/ppt/media/image40.png" ContentType="image/png"/>
  <Override PartName="/ppt/media/image5.jpeg" ContentType="image/jpeg"/>
  <Override PartName="/ppt/media/image35.png" ContentType="image/png"/>
  <Override PartName="/ppt/media/image9.png" ContentType="image/png"/>
  <Override PartName="/ppt/media/image39.png" ContentType="image/png"/>
  <Override PartName="/ppt/media/image41.png" ContentType="image/png"/>
  <Override PartName="/ppt/media/image10.png" ContentType="image/png"/>
  <Override PartName="/ppt/media/image30.png" ContentType="image/png"/>
  <Override PartName="/ppt/media/image37.png" ContentType="image/png"/>
  <Override PartName="/ppt/media/image7.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1.jpeg" ContentType="image/jpeg"/>
  <Override PartName="/ppt/media/image2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3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ED5A-114E-4C99-817E-377457063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7AC9-DD64-4722-96A2-C2FD31C4E8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1B5C-E0E5-4BC5-B1A2-D6C6972D42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E1DD-F17E-4ED4-9434-FF5D8A6E9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 could be multiple solutions to a problem and you provide the most feasible o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CCF9A-4393-4C7A-80EC-089539F414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rpose: writer is hoping to transform something within to reach a peace of min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nk about your favorite devotional song or hymn sung at worship.</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ds are used to convey a particular argument.</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E45A-7588-4D54-81C3-AB512E65ED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In plain English:</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l blessings come from God.</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owe everything to Him: my life, my health, my friends, and every good thing.</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sing a song like this at church, you are arguing </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at there is a God</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od is the source of all blessings and goodnes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 owe every blessing in my life to Him. (I owe Him thanks and gratitude.) </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B06E-C047-40F5-AD06-906E90DD21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ider the occasion that calls for an argume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t of persuasion in ancient rhetoric classifies arguments on basis of tim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arguments can overlap categori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 about present might include implications for futu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we don’t solve the current problem of soil erosion, in 10 years, we may be looking at total destruction of prime farm land.</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EF7D-CD02-4854-8F1D-B34158F490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ears of clear cutting timber without replanting has led to the current problem of soil erosion in SE Alaba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CDAF-C905-4F88-9250-70CE06960A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iberative – make some kind of decis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ten rely on forensic arguments b/c what happened in the past usually decides what will happen in future.</a:t>
            </a: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E60A-33B8-49F6-8ABD-5F5DC0A93E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pideictic or Ceremonial Argument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nd to be heard at public occasions</a:t>
            </a:r>
            <a:endParaRPr b="0" lang="en-US" sz="1200" spc="-1" strike="noStrike">
              <a:solidFill>
                <a:srgbClr val="000000"/>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augurals addresses, sermons, eulogies, graduation speeches, civic remark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1B95F-84BA-43D7-90C3-F6DCDB3AA8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pg. 1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F03C-6EAC-4A20-B01D-139A3F066A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E8D5-0CE3-4D4C-ACE8-5849DC1F61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otly contested argument based on defini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by Bob Costa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 his eulogy of Mickey Mantle, one of the greatest baseball players of all time, he distinguishes between a ROLE MODEL and a HERO. Pg. 24</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ny times, an argument stems from how society or a term is def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st ludicrous attempt at argument of definition was Bill Clinton debating the meaning of the word “is”.</a:t>
            </a: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3468-DEFA-4E92-A0F0-7B7F76FA72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of quality (comparison/contrast of car, for example – must be </a:t>
            </a:r>
            <a:r>
              <a:rPr b="1" lang="en-US" sz="1200" spc="-1" strike="noStrike">
                <a:solidFill>
                  <a:srgbClr val="000000"/>
                </a:solidFill>
                <a:latin typeface="Tahoma"/>
              </a:rPr>
              <a:t>fair basis</a:t>
            </a:r>
            <a:r>
              <a:rPr b="0" lang="en-US" sz="1200" spc="-1" strike="noStrike">
                <a:solidFill>
                  <a:srgbClr val="000000"/>
                </a:solidFill>
                <a:latin typeface="Tahoma"/>
              </a:rPr>
              <a:t> for comparison to make fair evaluation – Can’t compare a Toyota Corolla with a Humm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rks evaluates King according to her definition of true lead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3D77-FFC7-4397-82D6-1A2286B0B4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me problems are obvious and do not need to be prove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cus on solution for most of the argument.</a:t>
            </a: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7C24F-2EBA-4825-82FB-39B2B43891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se kinds of arguments are rooted in ancient rhetorical though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ganize arguments as to their status or STASIS – the kinds of issues they address.  (STASIS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d to a series of questio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example: pg. 14 – case that happened a couple of years ago</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7557-006C-4C6C-9348-7408DCF4DA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4CC7-DAD0-4404-8A2E-94B51BEC6D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ojourner Truth quote is a good example of how we as readers perceive her statements.  That we know she was a former slave who was pleading for justice, not just as a black but as a woman.  In fact, her audience was predominately white; therefore, in her argument, to show her humanity, she focused on herself as a woman first of all.  Once they realized that she was a real person, not just a former slave, then she could show that a woman is a woman is a woman, no matter what colo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he had to establish that connection with her reader in order for them to listen and be persuaded to what she had to say about justice.</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8C5A-A017-4DBE-BB7D-9C058B79C7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 wary because emotions can lead to unwise judgmen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 lot of advertising is emotional argumentation: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ies want to appeal to your feelings – make you want to buy a particular produc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ying a certain car will make you feel goo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earing a certain brand of clothing – make you feel fashionable/stylis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474B-FAFF-440F-8AE6-269B467AAE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96BD-B749-4150-A76C-13FB268074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s you read, look for evidence of these tra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ok at example pg .36 Edward Abb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ottom of pg. 36: facts and figures borrowed from the congressional website will carry more weight than stats from Jason’s Gonzo homepage.</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0BDB-D0AB-469D-8CEC-DC0BFA15DA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aim must be backed by reason; author has to prove the clai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s argument based on reasonable premises?  Does the writer provide sufficient evidence to prove claim?</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715B-51CB-478E-9D15-42062308AF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D OF CHAPTER TWO</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AEF5-D5FA-4966-92A1-0B70DD62AB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89261-E888-48DF-BDB3-341E161B43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e figure on pg. 53</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0CE7-B63F-4184-AE76-506C544C76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litical poster or advertisement: informs us as readers as to:</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r. X is running for a certain office</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ells us his stand on issues</a:t>
            </a:r>
            <a:endParaRPr b="0" lang="en-US" sz="1200" spc="-1" strike="noStrike">
              <a:solidFill>
                <a:srgbClr val="000000"/>
              </a:solidFill>
              <a:latin typeface="Tahoma"/>
            </a:endParaRPr>
          </a:p>
          <a:p>
            <a:pPr marL="228600" indent="-228600">
              <a:spcBef>
                <a:spcPts val="451"/>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icture might show us what he looks like (recognition): physical to name</a:t>
            </a:r>
            <a:endParaRPr b="0" lang="en-US" sz="1200" spc="-1" strike="noStrike">
              <a:solidFill>
                <a:srgbClr val="000000"/>
              </a:solidFill>
              <a:latin typeface="Tahoma"/>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2C7A-6E21-43F2-9791-176CE86069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s important to think about your rhetorical situation as dynamic, since each element of it has the potential to affect all the other elements.  A change of audience, for example, can lead you to reconsider all of your appeals.  If you begin to this in this dynamic way, you’ll be developing a rhetorical turn of mind:  you’ll find yourself viewing any topic from a number of perspectives (What might a different audience think of this?) developing a greater critical engagement with the issues and ideas.</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2E93-3809-42A0-9A64-5E026E720E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F29A-1734-4557-B82A-8B0E86D99F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03F6-1BF6-4F23-A269-CFC43CA908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s to convince aren’t necessarily set up to be persuasive, but by using facts, stats, you show readers you present a perspective that is worth serious considera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ample:  writing a report to identify the causes of soil erosion in Southeast Alabama.  You are necessarily trying to win an argument over an opponent, rather you are persuading others to agree with your findings.</a:t>
            </a: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9637-A01D-42CC-9A8F-2208238941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d the example by William F. Buckle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s a subject he finds troubling: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t suggesting a solution -  just points out a problem is t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nts his audience to think about the problem, which is the first step in addressing a soluti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ve to realize there is a problem before it can be solved)</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E19CE-4011-4189-92D8-43B67FE9D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1C68A-F573-4BCA-9794-4FD1A2F65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A9B54-4586-4720-A165-27835A8EF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C4B42-DA80-4F70-BBD9-43C3801D7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798BE-688E-44A5-95B7-E30429C155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C2C13-EC1C-4321-A71F-815229AA1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00B42-5C66-4DF4-8FE4-0B07461BF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730D0-C306-4731-A4EC-C26D90068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57BC9-2D8B-466A-8961-DB7F57E76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19701-3FA5-46B5-A11D-B7A3AA21D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D07F1-80D9-4A16-837D-F07C49C09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78130-0DE9-42B8-8D98-A4D4BF844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C2EF2-57EC-4EE8-9C0B-2E8F2E153C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D64EC-0139-4010-9B88-95EAB53C6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BCDD9-687D-426E-AD4A-F31FAF664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3D874-43A5-47FA-9217-1FB98533A1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D708F8-F92F-4B77-ABE3-72B5AFB23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E35A94-4DC6-4330-93BA-DCD004B4BE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AEC803-F750-4D52-83B8-5553C2555B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81140E-1291-450C-B119-F5CA158F4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69954A-FEC2-43EC-9C63-8AF0975F8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589314-95CB-4DE7-A179-2A4D49EF7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B1BFE-D810-41F0-B336-DAA171CB7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B7159F-2C8E-4F10-BBCE-DD932469F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AF3A2-5A3E-4B68-8D5B-5CF241D79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F7E3C-8455-4298-A5A7-A0A94920A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3C558-BE9A-40A0-A538-13AC9E9A1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D3E9E-74B2-4386-A6E0-CFF7B4CD3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C50716-141C-4F15-B539-C8AF985BA1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EA98FB-5913-4E13-8336-E75A2DC787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360E77-CA1F-470A-A3BC-750E9945A9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81B2A4-20A1-47F8-9664-553D21FF30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B525E-5626-4AE0-BA80-650C61FFB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7581F-05D3-473F-97C2-F571B8DC4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5FCDFF-035F-450E-B585-0C7096B917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B67E80-187D-4C51-B187-420FD6F3E6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43661-48C8-4E7C-A47E-91EC148185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8720DC-0FA1-495B-9160-F78DC6D306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870EE-2153-4646-89E5-A3387943F9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19CF55-9406-48B6-885A-5FAD33A5C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718303-6918-4DFE-8BBB-C036ADEC83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EE4F9D-F9B3-4294-861F-70EB49439D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2C3C60-9614-4314-B9CB-142C3A716F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EE41A8-172B-4A25-87D9-E7853BB9A6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27A10-21F8-4CE4-9E76-AAFA0A261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F32C37-B27A-4B9C-BEEB-BA9E2BD6B3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71603-3A12-493E-8B61-281CF6D01B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57F7D1-9B1B-43F7-B36D-B3BA28474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33CD64-6437-4793-97E7-2F3FC265F0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B2FAE3-F45A-469D-A103-4CD7D9210C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CF114-699C-4386-BE16-729F06C746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E547DA-FD36-4444-A155-25FBBC170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DC4F57-1CDD-4B0B-9526-634DB423BF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4D8CF8-8DFD-4DB5-ADE1-B6C626464D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F23B56-CFC5-4539-A224-9DE4AC4EE3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F29E0-B048-4CBA-BE81-68C8D277E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EB3C1D-F2EF-4B40-A167-97C2BE2615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B6DF70-04A1-4701-949B-D2F5C2B488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A44FE-F4F2-4F6A-AB6A-C43394A70F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7A4685-BDB7-46F9-9BF4-4FB37406E4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07D2F8-D035-44EA-A905-BA56EF1EEA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DA51A9-AC5B-412E-9640-6E1A48D65C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05F0CE-FF59-444D-92E6-0A36023321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E596A-E7DF-438B-8772-FDA21A711C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152F2B-B04D-4A15-BC88-B720FF0149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224D2-F158-4641-95F3-7B0D7CA2A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8B269-5992-4414-8907-430846427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53CE0C-2105-4C58-9557-5CE60BE193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46673B-A1B2-415E-895D-240667F46D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AE3065-9689-4031-A9BA-53D3CC6A5E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0080BD-83BF-4A10-93CC-69E4984ADB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A9C1F1-7259-4049-AE70-C20E5766EC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2B673F-4D57-4424-8F24-4FDF826FBB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8BAA02-138D-4E8F-97A3-FAD0592456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649C7E-CA3F-4DA7-96E2-ACD0427850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FB4247-D3D0-47CF-8DD5-0F28339FF4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D11AD9-73E2-4D88-97A6-81FAA27BE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DE409-D0B1-4F94-9320-0E57900C2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A7AFFB-C5DA-4F5A-B64B-EB96419280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66AC09-95B4-412C-A29A-C0DF29892E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9642FB-93D7-4C8F-A03F-408A85EA1E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DC247D-2980-474F-A8E2-D38506818C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1A874E-EB98-4F63-A35A-058B9E68D1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A45436-84B9-440A-8581-A5E858B1B3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65C17A-F4D1-4932-AED6-2C013ECCD6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CC178B-C84F-438B-B23E-90E7D60DCC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17FD37-E306-45E9-9497-5F28F1CCDD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F581EF-A979-4B5E-8CC2-C55F4D5FEA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7A379-3F9B-4713-929D-F98CBE3F4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D5098F-5AFD-49DD-AAC6-BBF4887055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5E7C67-1131-48F6-8B8B-AD1ED47D62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F3368-76D3-4434-B918-578D750263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F398D9-A1AF-4AAF-86C2-F053EB9891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306706-E6C0-4EA8-8012-0D17491526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97BE85-BAB7-456B-85A9-AA94309D91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93F7C4-9F1B-4A08-9B30-043C5D01074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EDCE-C24C-4713-BF2B-DA5668DB9D4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0B78-35D5-49B5-819E-E57F4877BCB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DDB9-4EE4-431A-A86A-7C742A1F50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EFAA-B817-4876-A703-C4470C72993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1AD7-65CA-4792-8138-BB96E01931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B7C0-C17B-48F5-9D4B-B6FDD8D0BB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0CFC-5410-473B-B348-E66000F9B5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E021-4C22-4708-AEA4-87A75ECEB80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Image:ObamaBarack.jpg" TargetMode="External"/><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AutoShape 2" descr=""/>
          <p:cNvPicPr/>
          <p:nvPr/>
        </p:nvPicPr>
        <p:blipFill>
          <a:blip r:embed="rId1"/>
          <a:stretch/>
        </p:blipFill>
        <p:spPr>
          <a:xfrm>
            <a:off x="682560" y="1749600"/>
            <a:ext cx="8272440" cy="184140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hapter 1: </a:t>
            </a:r>
            <a:r>
              <a:rPr b="0" lang="en-US" sz="2400" spc="-1" strike="noStrike">
                <a:solidFill>
                  <a:srgbClr val="464646"/>
                </a:solidFill>
                <a:latin typeface="Lucida Sans Unicode"/>
              </a:rPr>
              <a:t>Everything Is an Argu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838080" y="1599840"/>
            <a:ext cx="7848720" cy="5257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t>
            </a:r>
            <a:r>
              <a:rPr b="0" lang="en-US" sz="2000" spc="-1" strike="noStrike">
                <a:solidFill>
                  <a:srgbClr val="000000"/>
                </a:solidFill>
                <a:latin typeface="Lucida Sans Unicode"/>
              </a:rPr>
              <a:t>This is an exploratory column, its purpose to encourage thought on a question that badly needs thinking about.</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Problem</a:t>
            </a:r>
            <a:r>
              <a:rPr b="0" lang="en-US" sz="2000" spc="-1" strike="noStrike">
                <a:solidFill>
                  <a:srgbClr val="000000"/>
                </a:solidFill>
                <a:latin typeface="Lucida Sans Unicode"/>
              </a:rPr>
              <a:t>: The birth every year of one million babies to unwed mother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i="1" lang="en-US" sz="2000" spc="-1" strike="noStrike">
                <a:solidFill>
                  <a:srgbClr val="000000"/>
                </a:solidFill>
                <a:latin typeface="Lucida Sans Unicode"/>
              </a:rPr>
              <a:t>The Consequence</a:t>
            </a:r>
            <a:r>
              <a:rPr b="0" lang="en-US" sz="2000" spc="-1" strike="noStrike">
                <a:solidFill>
                  <a:srgbClr val="000000"/>
                </a:solidFill>
                <a:latin typeface="Lucida Sans Unicode"/>
              </a:rPr>
              <a:t>:  One million children who, on reaching the age of 13, tend to run into difficulties.  The statistics tell us that a child raised by a single parent is likelier by a factor of 600 percent to commit crimes, consume drugs, quit school, and bear, or sire, children out of wedlock.  Assume – if only to be hopeful – that the problems diminish after age 19; we are still left with six million teenagers who are a heavy social burden, as also, of course, a burden to themselves.”</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William F. Buckley</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a:t>
            </a:r>
            <a:r>
              <a:rPr b="0" lang="en-US" sz="2000" spc="-1" strike="noStrike">
                <a:solidFill>
                  <a:srgbClr val="000000"/>
                </a:solidFill>
                <a:latin typeface="Lucida Sans Unicode"/>
              </a:rPr>
              <a:t>Should There Be a Law?</a:t>
            </a:r>
            <a:endParaRPr b="0" lang="en-US" sz="2000" spc="-1" strike="noStrike">
              <a:solidFill>
                <a:srgbClr val="000000"/>
              </a:solidFill>
              <a:latin typeface="Lucida Sans Unicode"/>
            </a:endParaRPr>
          </a:p>
        </p:txBody>
      </p:sp>
      <p:pic>
        <p:nvPicPr>
          <p:cNvPr id="39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t>
            </a:r>
            <a:r>
              <a:rPr b="0" lang="en-US" sz="2100" spc="-1" strike="noStrike">
                <a:solidFill>
                  <a:srgbClr val="000000"/>
                </a:solidFill>
                <a:latin typeface="Lucida Sans Unicode"/>
              </a:rPr>
              <a:t>We have a problem with litter on campu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0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osely allied with exploratory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e for a particular decis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ampl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rom the essay addressing soil erosion in Southeast Alabama, you might write a proposal which focuses on a possible solution to the problem.</a:t>
            </a:r>
            <a:endParaRPr b="0" lang="en-US" sz="2100" spc="-1" strike="noStrike">
              <a:solidFill>
                <a:srgbClr val="000000"/>
              </a:solidFill>
              <a:latin typeface="Lucida Sans Unicode"/>
            </a:endParaRPr>
          </a:p>
        </p:txBody>
      </p:sp>
      <p:pic>
        <p:nvPicPr>
          <p:cNvPr id="402"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can take form of meditation on a theme or of pray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using to consider or to gain peace of mi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urpos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 is hoping to transform something within to reach a peace of mind.</a:t>
            </a:r>
            <a:endParaRPr b="0" lang="en-US" sz="2300" spc="-1" strike="noStrike">
              <a:solidFill>
                <a:srgbClr val="000000"/>
              </a:solidFill>
              <a:latin typeface="Lucida Sans Unicode"/>
            </a:endParaRPr>
          </a:p>
        </p:txBody>
      </p:sp>
      <p:pic>
        <p:nvPicPr>
          <p:cNvPr id="40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AutoShape 2" descr=""/>
          <p:cNvPicPr/>
          <p:nvPr/>
        </p:nvPicPr>
        <p:blipFill>
          <a:blip r:embed="rId1"/>
          <a:stretch/>
        </p:blipFill>
        <p:spPr>
          <a:xfrm>
            <a:off x="725400" y="1060560"/>
            <a:ext cx="8047080" cy="435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utu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a:t>
            </a:r>
            <a:endParaRPr b="0" lang="en-US" sz="2700" spc="-1" strike="noStrike">
              <a:solidFill>
                <a:srgbClr val="000000"/>
              </a:solidFill>
              <a:latin typeface="Lucida Sans Unicode"/>
            </a:endParaRPr>
          </a:p>
        </p:txBody>
      </p:sp>
      <p:pic>
        <p:nvPicPr>
          <p:cNvPr id="40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Forensic</a:t>
            </a:r>
            <a:r>
              <a:rPr b="0" lang="en-US" sz="2700" spc="-1" strike="noStrike">
                <a:solidFill>
                  <a:srgbClr val="000000"/>
                </a:solidFill>
                <a:latin typeface="Lucida Sans Unicode"/>
              </a:rPr>
              <a:t> arguments: debates about what has happened in the pas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 evidence from past to justify conclusion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ly heavily on precedents – actions or decisions in past that influence policies or decisions in the presen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a:t>
            </a:r>
            <a:r>
              <a:rPr b="0" lang="en-US" sz="1900" spc="-1" strike="noStrike">
                <a:solidFill>
                  <a:srgbClr val="000000"/>
                </a:solidFill>
                <a:latin typeface="Lucida Sans Unicode"/>
              </a:rPr>
              <a:t>Years of clear-cutting timber without replanting has led to the current problem of soil erosion in SE Alabama.”</a:t>
            </a:r>
            <a:endParaRPr b="0" lang="en-US" sz="1900" spc="-1" strike="noStrike">
              <a:solidFill>
                <a:srgbClr val="000000"/>
              </a:solidFill>
              <a:latin typeface="Lucida Sans Unicode"/>
            </a:endParaRPr>
          </a:p>
        </p:txBody>
      </p:sp>
      <p:pic>
        <p:nvPicPr>
          <p:cNvPr id="40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Deliberative</a:t>
            </a:r>
            <a:r>
              <a:rPr b="0" lang="en-US" sz="2700" spc="-1" strike="noStrike">
                <a:solidFill>
                  <a:srgbClr val="000000"/>
                </a:solidFill>
                <a:latin typeface="Lucida Sans Unicode"/>
              </a:rPr>
              <a:t> argument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ften rely on forensic arguments because what happened in the past usually decides what will happen in the future. </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ke some kind of decision (proposals)</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ry to establish policies or project future outcomes</a:t>
            </a:r>
            <a:endParaRPr b="0" lang="en-US" sz="2100" spc="-1" strike="noStrike">
              <a:solidFill>
                <a:srgbClr val="000000"/>
              </a:solidFill>
              <a:latin typeface="Lucida Sans Unicode"/>
            </a:endParaRPr>
          </a:p>
        </p:txBody>
      </p:sp>
      <p:pic>
        <p:nvPicPr>
          <p:cNvPr id="41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pideictic or Ceremonial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ts aim: to condemn or to eulogize an individual, cause, occasion, movement, city, or stat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about contemporary valu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thical premises/assumptions widely held within a society</a:t>
            </a:r>
            <a:endParaRPr b="0" lang="en-US" sz="2300" spc="-1" strike="noStrike">
              <a:solidFill>
                <a:srgbClr val="000000"/>
              </a:solidFill>
              <a:latin typeface="Lucida Sans Unicode"/>
            </a:endParaRPr>
          </a:p>
        </p:txBody>
      </p:sp>
      <p:pic>
        <p:nvPicPr>
          <p:cNvPr id="41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83808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s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s</a:t>
            </a:r>
            <a:endParaRPr b="0" lang="en-US" sz="2400" spc="-1" strike="noStrike">
              <a:solidFill>
                <a:srgbClr val="ffffff"/>
              </a:solidFill>
              <a:latin typeface="Lucida Sans Unicode"/>
            </a:endParaRPr>
          </a:p>
        </p:txBody>
      </p:sp>
      <p:sp>
        <p:nvSpPr>
          <p:cNvPr id="415" name=""/>
          <p:cNvSpPr txBox="1"/>
          <p:nvPr/>
        </p:nvSpPr>
        <p:spPr>
          <a:xfrm>
            <a:off x="4759200" y="2361960"/>
            <a:ext cx="3772080" cy="37242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id something happe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nature?</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its qualit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a:t>
            </a:r>
            <a:endParaRPr b="0" lang="en-US" sz="2400" spc="-1" strike="noStrike">
              <a:solidFill>
                <a:srgbClr val="ffffff"/>
              </a:solidFill>
              <a:latin typeface="Lucida Sans Unicode"/>
            </a:endParaRPr>
          </a:p>
        </p:txBody>
      </p:sp>
      <p:pic>
        <p:nvPicPr>
          <p:cNvPr id="41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ur text is based on the following presump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an argument can be </a:t>
            </a:r>
            <a:r>
              <a:rPr b="0" i="1" lang="en-US" sz="2300" spc="-1" strike="noStrike">
                <a:solidFill>
                  <a:srgbClr val="000000"/>
                </a:solidFill>
                <a:latin typeface="Lucida Sans Unicode"/>
              </a:rPr>
              <a:t>any</a:t>
            </a:r>
            <a:r>
              <a:rPr b="0" lang="en-US" sz="2300" spc="-1" strike="noStrike">
                <a:solidFill>
                  <a:srgbClr val="000000"/>
                </a:solidFill>
                <a:latin typeface="Lucida Sans Unicode"/>
              </a:rPr>
              <a:t> text (whether written, spoken, or visual) that expresses a point of view.  </a:t>
            </a:r>
            <a:r>
              <a:rPr b="0" lang="en-US" sz="1800" spc="-1" strike="noStrike">
                <a:solidFill>
                  <a:srgbClr val="000000"/>
                </a:solidFill>
                <a:latin typeface="Lucida Sans Unicode"/>
              </a:rPr>
              <a:t>(p. 4)</a:t>
            </a:r>
            <a:endParaRPr b="0" lang="en-US" sz="1800" spc="-1" strike="noStrike">
              <a:solidFill>
                <a:srgbClr val="000000"/>
              </a:solidFill>
              <a:latin typeface="Lucida Sans Unicode"/>
            </a:endParaRPr>
          </a:p>
        </p:txBody>
      </p:sp>
      <p:pic>
        <p:nvPicPr>
          <p:cNvPr id="380"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acts can be proved or disproved with evidence or testimon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cern:  if something can easily be proven, it can’t be argued.</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 Hyundai is significantly lower in price than Toyota. </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Global warming is rapidly destroying the rain forests of South America.</a:t>
            </a:r>
            <a:endParaRPr b="0" lang="en-US" sz="23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18"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ften involves categorizing or defining term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 </a:t>
            </a:r>
            <a:r>
              <a:rPr b="0" i="1" lang="en-US" sz="2300" spc="-1" strike="noStrike">
                <a:solidFill>
                  <a:srgbClr val="000000"/>
                </a:solidFill>
                <a:latin typeface="Lucida Sans Unicode"/>
              </a:rPr>
              <a:t>human</a:t>
            </a:r>
            <a:r>
              <a:rPr b="0" lang="en-US" sz="2300" spc="-1" strike="noStrike">
                <a:solidFill>
                  <a:srgbClr val="000000"/>
                </a:solidFill>
                <a:latin typeface="Lucida Sans Unicode"/>
              </a:rPr>
              <a:t> </a:t>
            </a:r>
            <a:r>
              <a:rPr b="0" i="1" lang="en-US" sz="2300" spc="-1" strike="noStrike">
                <a:solidFill>
                  <a:srgbClr val="464646"/>
                </a:solidFill>
                <a:latin typeface="Lucida Sans Unicode"/>
              </a:rPr>
              <a:t>embryo</a:t>
            </a:r>
            <a:r>
              <a:rPr b="0" lang="en-US" sz="2300" spc="-1" strike="noStrike">
                <a:solidFill>
                  <a:srgbClr val="000000"/>
                </a:solidFill>
                <a:latin typeface="Lucida Sans Unicode"/>
              </a:rPr>
              <a:t> a </a:t>
            </a:r>
            <a:r>
              <a:rPr b="0" i="1" lang="en-US" sz="2300" spc="-1" strike="noStrike">
                <a:solidFill>
                  <a:srgbClr val="464646"/>
                </a:solidFill>
                <a:latin typeface="Lucida Sans Unicode"/>
              </a:rPr>
              <a:t>human being</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Is </a:t>
            </a:r>
            <a:r>
              <a:rPr b="0" i="1" lang="en-US" sz="2300" spc="-1" strike="noStrike">
                <a:solidFill>
                  <a:srgbClr val="464646"/>
                </a:solidFill>
                <a:latin typeface="Lucida Sans Unicode"/>
              </a:rPr>
              <a:t>abortion</a:t>
            </a:r>
            <a:r>
              <a:rPr b="0" lang="en-US" sz="2300" spc="-1" strike="noStrike">
                <a:solidFill>
                  <a:srgbClr val="000000"/>
                </a:solidFill>
                <a:latin typeface="Lucida Sans Unicode"/>
              </a:rPr>
              <a:t> </a:t>
            </a:r>
            <a:r>
              <a:rPr b="0" i="1" lang="en-US" sz="2300" spc="-1" strike="noStrike">
                <a:solidFill>
                  <a:srgbClr val="464646"/>
                </a:solidFill>
                <a:latin typeface="Lucida Sans Unicode"/>
              </a:rPr>
              <a:t>murder</a:t>
            </a:r>
            <a:r>
              <a:rPr b="0" lang="en-US" sz="2300" spc="-1" strike="noStrike">
                <a:solidFill>
                  <a:srgbClr val="000000"/>
                </a:solidFill>
                <a:latin typeface="Lucida Sans Unicode"/>
              </a:rPr>
              <a:t>?”</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ob Costas example (pg. 24)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ickey Mantle eulogy</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OLE MODEL </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HERO</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type of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 of qua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kes some kind of judgment about topic</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ahoe vs. Expedition: which is the better SUV for the price?</a:t>
            </a:r>
            <a:endParaRPr b="0" lang="en-US" sz="21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arks’ evaluation of Martin Luther King Jr. (pg. 26)</a:t>
            </a:r>
            <a:endParaRPr b="0" lang="en-US" sz="2100" spc="-1" strike="noStrike">
              <a:solidFill>
                <a:srgbClr val="000000"/>
              </a:solidFill>
              <a:latin typeface="Lucida Sans Unicode"/>
            </a:endParaRPr>
          </a:p>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 evidence to show there is a problem; then, propose a solu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mmend most viable course of action.</a:t>
            </a:r>
            <a:endParaRPr b="0" lang="en-US" sz="2700" spc="-1" strike="noStrike">
              <a:solidFill>
                <a:srgbClr val="000000"/>
              </a:solidFill>
              <a:latin typeface="Lucida Sans Unicode"/>
            </a:endParaRPr>
          </a:p>
        </p:txBody>
      </p:sp>
      <p:pic>
        <p:nvPicPr>
          <p:cNvPr id="42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38080" y="2362320"/>
            <a:ext cx="3772080" cy="39621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Fac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Defini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Argument of </a:t>
            </a:r>
            <a:r>
              <a:rPr b="1" lang="en-US" sz="2400" spc="-1" strike="noStrike">
                <a:solidFill>
                  <a:srgbClr val="ffffff"/>
                </a:solidFill>
                <a:latin typeface="Lucida Sans Unicode"/>
              </a:rPr>
              <a:t>Evaluation</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Lucida Sans Unicode"/>
              </a:rPr>
              <a:t>Proposal</a:t>
            </a:r>
            <a:r>
              <a:rPr b="0" lang="en-US" sz="2400" spc="-1" strike="noStrike">
                <a:solidFill>
                  <a:srgbClr val="ffffff"/>
                </a:solidFill>
                <a:latin typeface="Lucida Sans Unicode"/>
              </a:rPr>
              <a:t> Argument</a:t>
            </a:r>
            <a:endParaRPr b="0" lang="en-US" sz="2400" spc="-1" strike="noStrike">
              <a:solidFill>
                <a:srgbClr val="ffffff"/>
              </a:solidFill>
              <a:latin typeface="Lucida Sans Unicode"/>
            </a:endParaRPr>
          </a:p>
        </p:txBody>
      </p:sp>
      <p:sp>
        <p:nvSpPr>
          <p:cNvPr id="426" name=""/>
          <p:cNvSpPr txBox="1"/>
          <p:nvPr/>
        </p:nvSpPr>
        <p:spPr>
          <a:xfrm>
            <a:off x="4759200" y="2362320"/>
            <a:ext cx="3772080" cy="40384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Does global warming exist?</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is global warming?</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ould global warming be a concern to us today?</a:t>
            </a:r>
            <a:endParaRPr b="0" lang="en-US" sz="2400" spc="-1" strike="noStrike">
              <a:solidFill>
                <a:srgbClr val="ffffff"/>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hat action should be taken to stop global warming?</a:t>
            </a:r>
            <a:endParaRPr b="0" lang="en-US" sz="2400" spc="-1" strike="noStrike">
              <a:solidFill>
                <a:srgbClr val="ffffff"/>
              </a:solidFill>
              <a:latin typeface="Lucida Sans Unicode"/>
            </a:endParaRPr>
          </a:p>
        </p:txBody>
      </p:sp>
      <p:pic>
        <p:nvPicPr>
          <p:cNvPr id="42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ing a Connection to Rea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do not write in a cultural vacuu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riters’ works are influenced by </a:t>
            </a:r>
            <a:r>
              <a:rPr b="0" i="1" lang="en-US" sz="2300" spc="-1" strike="noStrike">
                <a:solidFill>
                  <a:srgbClr val="000000"/>
                </a:solidFill>
                <a:latin typeface="Lucida Sans Unicode"/>
              </a:rPr>
              <a:t>who</a:t>
            </a:r>
            <a:r>
              <a:rPr b="0" lang="en-US" sz="2300" spc="-1" strike="noStrike">
                <a:solidFill>
                  <a:srgbClr val="000000"/>
                </a:solidFill>
                <a:latin typeface="Lucida Sans Unicode"/>
              </a:rPr>
              <a:t> they ar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ace</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Religion</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Gender</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Ethnicity</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lass</a:t>
            </a:r>
            <a:endParaRPr b="0" lang="en-US" sz="18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Intelligence</a:t>
            </a:r>
            <a:endParaRPr b="0" lang="en-US" sz="18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2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aders’ perceptions of writer influence their reception of what has been writt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think about readers’ perceptions, values, possible prejudi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stablish some connection with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amiliarit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esenting yourself as authority</a:t>
            </a:r>
            <a:endParaRPr b="0" lang="en-US" sz="2300" spc="-1" strike="noStrike">
              <a:solidFill>
                <a:srgbClr val="000000"/>
              </a:solidFill>
              <a:latin typeface="Lucida Sans Unicode"/>
            </a:endParaRPr>
          </a:p>
        </p:txBody>
      </p:sp>
      <p:pic>
        <p:nvPicPr>
          <p:cNvPr id="431"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040" y="1599840"/>
            <a:ext cx="7924680" cy="5257800"/>
          </a:xfrm>
          <a:prstGeom prst="rect">
            <a:avLst/>
          </a:prstGeom>
          <a:noFill/>
          <a:ln w="0">
            <a:noFill/>
          </a:ln>
        </p:spPr>
        <p:txBody>
          <a:bodyPr anchor="t">
            <a:normAutofit/>
          </a:bodyPr>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t>
            </a:r>
            <a:r>
              <a:rPr b="0" lang="en-US" sz="2300" spc="-1" strike="noStrike">
                <a:solidFill>
                  <a:srgbClr val="000000"/>
                </a:solidFill>
                <a:latin typeface="Lucida Sans Unicode"/>
              </a:rPr>
              <a:t>Look at me!  Look at my arm!  I have ploughe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nd planted, and gathered into barns, and no</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an could head me.  And ain’t I a woman?... I</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ave borne thirteen children, and seen most all</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old off to slavery, and when I cried out with my</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mother’s grief, none but Jesus heard me.  An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in’t I a woman?” </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Sojourner Truth</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	</a:t>
            </a:r>
            <a:r>
              <a:rPr b="0" lang="en-US" sz="2300" spc="-1" strike="noStrike">
                <a:solidFill>
                  <a:srgbClr val="000000"/>
                </a:solidFill>
                <a:latin typeface="Lucida Sans Unicode"/>
              </a:rPr>
              <a:t>“</a:t>
            </a:r>
            <a:r>
              <a:rPr b="0" lang="en-US" sz="2300" spc="-1" strike="noStrike">
                <a:solidFill>
                  <a:srgbClr val="000000"/>
                </a:solidFill>
                <a:latin typeface="Lucida Sans Unicode"/>
              </a:rPr>
              <a:t>Ain’t I a Woman?”</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3" name="AutoShape 2" descr=""/>
          <p:cNvPicPr/>
          <p:nvPr/>
        </p:nvPicPr>
        <p:blipFill>
          <a:blip r:embed="rId1"/>
          <a:stretch/>
        </p:blipFill>
        <p:spPr>
          <a:xfrm>
            <a:off x="195120" y="268200"/>
            <a:ext cx="8637840" cy="1158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identified 3 key ways writers can appeal to their audiences in argumen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Pa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motional appeals or appeals to the heart</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th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thical appeals or appeals based on the writer’s authority and credibility</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Logo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ogical appeals or appeals to reason</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3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85440" y="1752120"/>
            <a:ext cx="8001000" cy="44960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signed to appeal to the readers’ emotions and feeling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cause readers to think more carefully about subject.</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suading reader not to drink and drive</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lling a story of a teen or young mother killed by drunk driver</a:t>
            </a:r>
            <a:endParaRPr b="0" lang="en-US" sz="2100" spc="-1" strike="noStrike">
              <a:solidFill>
                <a:srgbClr val="000000"/>
              </a:solidFill>
              <a:latin typeface="Lucida Sans Unicode"/>
            </a:endParaRPr>
          </a:p>
        </p:txBody>
      </p:sp>
      <p:pic>
        <p:nvPicPr>
          <p:cNvPr id="43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for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vinc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ake Deci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ditate/Pray</a:t>
            </a:r>
            <a:endParaRPr b="0" lang="en-US" sz="2700" spc="-1" strike="noStrike">
              <a:solidFill>
                <a:srgbClr val="000000"/>
              </a:solidFill>
              <a:latin typeface="Lucida Sans Unicode"/>
            </a:endParaRPr>
          </a:p>
        </p:txBody>
      </p:sp>
      <p:pic>
        <p:nvPicPr>
          <p:cNvPr id="382"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914040" y="1676520"/>
            <a:ext cx="8001000" cy="4952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writer, must seem honest, sincere, and trustworthy.</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for evidence of character in arguments</a:t>
            </a:r>
            <a:endParaRPr b="0" lang="en-US" sz="27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o is the author?</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writer an authority on topic/knowledgeable about topic?</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s evidence presented full/complete, not slanted to writer’s agenda?</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oes  writer acknowledge and address opposition?</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re sources documented?</a:t>
            </a:r>
            <a:endParaRPr b="0" lang="en-US" sz="21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2" marL="85896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Lucida Sans Unicode"/>
              </a:rPr>
              <a:t>REMEMBER: these same questions will be used to analyze your writings.</a:t>
            </a:r>
            <a:endParaRPr b="0" lang="en-US" sz="2100" spc="-1" strike="noStrike">
              <a:solidFill>
                <a:srgbClr val="000000"/>
              </a:solidFill>
              <a:latin typeface="Lucida Sans Unicode"/>
            </a:endParaRPr>
          </a:p>
        </p:txBody>
      </p:sp>
      <p:pic>
        <p:nvPicPr>
          <p:cNvPr id="43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914040" y="236232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author, you must consider</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anguag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ganization &amp; structur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ense of authority</a:t>
            </a:r>
            <a:endParaRPr b="0" lang="en-US" sz="2300" spc="-1" strike="noStrike">
              <a:solidFill>
                <a:srgbClr val="000000"/>
              </a:solidFill>
              <a:latin typeface="Lucida Sans Unicode"/>
            </a:endParaRPr>
          </a:p>
        </p:txBody>
      </p:sp>
      <p:pic>
        <p:nvPicPr>
          <p:cNvPr id="44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riter must provide enough </a:t>
            </a:r>
            <a:r>
              <a:rPr b="1" lang="en-US" sz="2700" spc="-1" strike="noStrike">
                <a:solidFill>
                  <a:srgbClr val="000000"/>
                </a:solidFill>
                <a:latin typeface="Lucida Sans Unicode"/>
              </a:rPr>
              <a:t>evidence</a:t>
            </a:r>
            <a:r>
              <a:rPr b="0" lang="en-US" sz="2700" spc="-1" strike="noStrike">
                <a:solidFill>
                  <a:srgbClr val="000000"/>
                </a:solidFill>
                <a:latin typeface="Lucida Sans Unicode"/>
              </a:rPr>
              <a:t> to support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est all assumptions and </a:t>
            </a:r>
            <a:r>
              <a:rPr b="1" lang="en-US" sz="2700" spc="-1" strike="noStrike">
                <a:solidFill>
                  <a:srgbClr val="000000"/>
                </a:solidFill>
                <a:latin typeface="Lucida Sans Unicode"/>
              </a:rPr>
              <a:t>claim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Question every source and authority cite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ata and information from </a:t>
            </a:r>
            <a:r>
              <a:rPr b="0" i="1" lang="en-US" sz="2300" spc="-1" strike="noStrike">
                <a:solidFill>
                  <a:srgbClr val="000000"/>
                </a:solidFill>
                <a:latin typeface="Lucida Sans Unicode"/>
              </a:rPr>
              <a:t>reliable</a:t>
            </a:r>
            <a:r>
              <a:rPr b="0" lang="en-US" sz="2300" spc="-1" strike="noStrike">
                <a:solidFill>
                  <a:srgbClr val="000000"/>
                </a:solidFill>
                <a:latin typeface="Lucida Sans Unicode"/>
              </a:rPr>
              <a:t> sources</a:t>
            </a:r>
            <a:endParaRPr b="0" lang="en-US" sz="2300" spc="-1" strike="noStrike">
              <a:solidFill>
                <a:srgbClr val="000000"/>
              </a:solidFill>
              <a:latin typeface="Lucida Sans Unicode"/>
            </a:endParaRPr>
          </a:p>
        </p:txBody>
      </p:sp>
      <p:pic>
        <p:nvPicPr>
          <p:cNvPr id="443" name="AutoShape 2" descr=""/>
          <p:cNvPicPr/>
          <p:nvPr/>
        </p:nvPicPr>
        <p:blipFill>
          <a:blip r:embed="rId1"/>
          <a:stretch/>
        </p:blipFill>
        <p:spPr>
          <a:xfrm>
            <a:off x="255600" y="268200"/>
            <a:ext cx="8437680" cy="115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685440" y="1600200"/>
            <a:ext cx="8001000" cy="4495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Claim</a:t>
            </a:r>
            <a:r>
              <a:rPr b="0" lang="en-US" sz="2700" spc="-1" strike="noStrike">
                <a:solidFill>
                  <a:srgbClr val="000000"/>
                </a:solidFill>
                <a:latin typeface="Lucida Sans Unicode"/>
              </a:rPr>
              <a:t>: statement of belief or truth</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plainly stated (more traditional argume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an be inferred (in stories, anecdotes, etc.).</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ims must be attached to reasons that support it and premises that uphold it to be an argu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n have several claims in one essa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ok at relationship among them</a:t>
            </a:r>
            <a:endParaRPr b="0" lang="en-US" sz="2300" spc="-1" strike="noStrike">
              <a:solidFill>
                <a:srgbClr val="000000"/>
              </a:solidFill>
              <a:latin typeface="Lucida Sans Unicode"/>
            </a:endParaRPr>
          </a:p>
        </p:txBody>
      </p:sp>
      <p:pic>
        <p:nvPicPr>
          <p:cNvPr id="44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guments must have logical structure, even if appeal uses emotion, values, or charact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ristotle asserted arguments had only 2 part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tatement                          (claim)</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of                                  (evidence)</a:t>
            </a:r>
            <a:endParaRPr b="0" lang="en-US" sz="2300" spc="-1" strike="noStrike">
              <a:solidFill>
                <a:srgbClr val="000000"/>
              </a:solidFill>
              <a:latin typeface="Lucida Sans Unicode"/>
            </a:endParaRPr>
          </a:p>
        </p:txBody>
      </p:sp>
      <p:pic>
        <p:nvPicPr>
          <p:cNvPr id="44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685440" y="1600200"/>
            <a:ext cx="8001000" cy="4495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hink of the way the evidence is present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en logical, well-planned argument can be boring.</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ave to tailor your style to the topic</a:t>
            </a:r>
            <a:endParaRPr b="0" lang="en-US" sz="27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is most appropriate</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yle can tell readers what to expect</a:t>
            </a:r>
            <a:endParaRPr b="0" lang="en-US" sz="2700" spc="-1" strike="noStrike">
              <a:solidFill>
                <a:srgbClr val="000000"/>
              </a:solidFill>
              <a:latin typeface="Lucida Sans Unicode"/>
            </a:endParaRPr>
          </a:p>
        </p:txBody>
      </p:sp>
      <p:pic>
        <p:nvPicPr>
          <p:cNvPr id="44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think about audience or readers when you present argum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ust always address an intended audience.</a:t>
            </a:r>
            <a:endParaRPr b="0" lang="en-US" sz="2700" spc="-1" strike="noStrike">
              <a:solidFill>
                <a:srgbClr val="000000"/>
              </a:solidFill>
              <a:latin typeface="Lucida Sans Unicode"/>
            </a:endParaRPr>
          </a:p>
        </p:txBody>
      </p:sp>
      <p:pic>
        <p:nvPicPr>
          <p:cNvPr id="45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ferent kinds of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deal reader (exists in author’s mi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voked reader (represented in the tex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al reader (ones who actually read text)</a:t>
            </a:r>
            <a:endParaRPr b="0" lang="en-US" sz="2300" spc="-1" strike="noStrike">
              <a:solidFill>
                <a:srgbClr val="000000"/>
              </a:solidFill>
              <a:latin typeface="Lucida Sans Unicode"/>
            </a:endParaRPr>
          </a:p>
        </p:txBody>
      </p:sp>
      <p:pic>
        <p:nvPicPr>
          <p:cNvPr id="45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potential readers do not feel connected to text in some way, the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probably) not be affected by your argument  or</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y will not even continue to read.</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5"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ays to establish credibility:</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monstrate you are knowledgeabl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light shared valu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fer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se language to build common groun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Respect reader</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most impossible to guarantee credibility because readers are varied.</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57"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senting specific information to inform rea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 is on the </a:t>
            </a:r>
            <a:r>
              <a:rPr b="1" lang="en-US" sz="2700" spc="-1" strike="noStrike">
                <a:solidFill>
                  <a:srgbClr val="000000"/>
                </a:solidFill>
                <a:latin typeface="Lucida Sans Unicode"/>
              </a:rPr>
              <a:t>inform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84"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monstrate Knowledge</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how readers you know what you are talking about</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acts/statistics</a:t>
            </a:r>
            <a:endParaRPr b="0" lang="en-US" sz="2100" spc="-1" strike="noStrike">
              <a:solidFill>
                <a:srgbClr val="000000"/>
              </a:solidFill>
              <a:latin typeface="Lucida Sans Unicode"/>
            </a:endParaRPr>
          </a:p>
        </p:txBody>
      </p:sp>
      <p:pic>
        <p:nvPicPr>
          <p:cNvPr id="459"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ghlight Shared Value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Find common values with the potential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hat community do you share?</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fer to Common Experien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ild Common Ground</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losely related to common experienc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stablish a connection with readers</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se pronouns</a:t>
            </a:r>
            <a:endParaRPr b="0" lang="en-US" sz="2100" spc="-1" strike="noStrike">
              <a:solidFill>
                <a:srgbClr val="000000"/>
              </a:solidFill>
              <a:latin typeface="Lucida Sans Unicode"/>
            </a:endParaRPr>
          </a:p>
        </p:txBody>
      </p:sp>
      <p:pic>
        <p:nvPicPr>
          <p:cNvPr id="461"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ect Reader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speak down to rea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not use offensive language</a:t>
            </a:r>
            <a:endParaRPr b="0" lang="en-US" sz="2300" spc="-1" strike="noStrike">
              <a:solidFill>
                <a:srgbClr val="000000"/>
              </a:solidFill>
              <a:latin typeface="Lucida Sans Unicode"/>
            </a:endParaRPr>
          </a:p>
        </p:txBody>
      </p:sp>
      <p:pic>
        <p:nvPicPr>
          <p:cNvPr id="463"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rgument exists in a particular context of some kind that influences how it can be shaped and how others receive it.</a:t>
            </a:r>
            <a:endParaRPr b="0" lang="en-US" sz="2800" spc="-1" strike="noStrike">
              <a:solidFill>
                <a:srgbClr val="000000"/>
              </a:solidFill>
              <a:latin typeface="Lucida Sans Unicode"/>
            </a:endParaRPr>
          </a:p>
        </p:txBody>
      </p:sp>
      <p:pic>
        <p:nvPicPr>
          <p:cNvPr id="465" name="Rectangle 2" descr=""/>
          <p:cNvPicPr/>
          <p:nvPr/>
        </p:nvPicPr>
        <p:blipFill>
          <a:blip r:embed="rId1"/>
          <a:stretch/>
        </p:blipFill>
        <p:spPr>
          <a:xfrm>
            <a:off x="195120" y="268200"/>
            <a:ext cx="8498160" cy="1158840"/>
          </a:xfrm>
          <a:prstGeom prst="rect">
            <a:avLst/>
          </a:prstGeom>
          <a:ln w="0">
            <a:noFill/>
          </a:ln>
        </p:spPr>
      </p:pic>
      <p:sp>
        <p:nvSpPr>
          <p:cNvPr id="466" name="Oval 4"/>
          <p:cNvSpPr/>
          <p:nvPr/>
        </p:nvSpPr>
        <p:spPr>
          <a:xfrm>
            <a:off x="3200400" y="373392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sp>
        <p:nvSpPr>
          <p:cNvPr id="467" name="AutoShape 5"/>
          <p:cNvSpPr/>
          <p:nvPr/>
        </p:nvSpPr>
        <p:spPr>
          <a:xfrm>
            <a:off x="3505320" y="3733920"/>
            <a:ext cx="1752480" cy="190476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7"/>
          <p:cNvSpPr/>
          <p:nvPr/>
        </p:nvSpPr>
        <p:spPr>
          <a:xfrm>
            <a:off x="3432960" y="3124080"/>
            <a:ext cx="194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p:txBody>
      </p:sp>
      <p:sp>
        <p:nvSpPr>
          <p:cNvPr id="469" name="Text Box 8"/>
          <p:cNvSpPr/>
          <p:nvPr/>
        </p:nvSpPr>
        <p:spPr>
          <a:xfrm>
            <a:off x="1299240" y="5638680"/>
            <a:ext cx="223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p:txBody>
      </p:sp>
      <p:sp>
        <p:nvSpPr>
          <p:cNvPr id="470" name="Text Box 9"/>
          <p:cNvSpPr/>
          <p:nvPr/>
        </p:nvSpPr>
        <p:spPr>
          <a:xfrm>
            <a:off x="5413680" y="5638680"/>
            <a:ext cx="190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p:txBody>
      </p:sp>
      <p:pic>
        <p:nvPicPr>
          <p:cNvPr id="472" name="Rectangle 2" descr=""/>
          <p:cNvPicPr/>
          <p:nvPr/>
        </p:nvPicPr>
        <p:blipFill>
          <a:blip r:embed="rId1"/>
          <a:stretch/>
        </p:blipFill>
        <p:spPr>
          <a:xfrm>
            <a:off x="195120" y="268200"/>
            <a:ext cx="8498160" cy="1158840"/>
          </a:xfrm>
          <a:prstGeom prst="rect">
            <a:avLst/>
          </a:prstGeom>
          <a:ln w="0">
            <a:noFill/>
          </a:ln>
        </p:spPr>
      </p:pic>
      <p:sp>
        <p:nvSpPr>
          <p:cNvPr id="473" name="Oval 4"/>
          <p:cNvSpPr/>
          <p:nvPr/>
        </p:nvSpPr>
        <p:spPr>
          <a:xfrm>
            <a:off x="3124080" y="2895480"/>
            <a:ext cx="236232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5"/>
          <p:cNvSpPr/>
          <p:nvPr/>
        </p:nvSpPr>
        <p:spPr>
          <a:xfrm>
            <a:off x="3429000" y="2895480"/>
            <a:ext cx="1752480" cy="19051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
          <p:cNvSpPr/>
          <p:nvPr/>
        </p:nvSpPr>
        <p:spPr>
          <a:xfrm>
            <a:off x="3356640" y="1676520"/>
            <a:ext cx="194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pic/Sub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LOGOS</a:t>
            </a:r>
            <a:endParaRPr b="0" lang="en-US" sz="1800" spc="-1" strike="noStrike">
              <a:solidFill>
                <a:srgbClr val="000000"/>
              </a:solidFill>
              <a:latin typeface="Arial"/>
            </a:endParaRPr>
          </a:p>
        </p:txBody>
      </p:sp>
      <p:sp>
        <p:nvSpPr>
          <p:cNvPr id="476" name="Text Box 7"/>
          <p:cNvSpPr/>
          <p:nvPr/>
        </p:nvSpPr>
        <p:spPr>
          <a:xfrm>
            <a:off x="1070640" y="4876920"/>
            <a:ext cx="2233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dience/Read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PATHOS</a:t>
            </a:r>
            <a:endParaRPr b="0" lang="en-US" sz="1800" spc="-1" strike="noStrike">
              <a:solidFill>
                <a:srgbClr val="000000"/>
              </a:solidFill>
              <a:latin typeface="Arial"/>
            </a:endParaRPr>
          </a:p>
        </p:txBody>
      </p:sp>
      <p:sp>
        <p:nvSpPr>
          <p:cNvPr id="477" name="Text Box 8"/>
          <p:cNvSpPr/>
          <p:nvPr/>
        </p:nvSpPr>
        <p:spPr>
          <a:xfrm>
            <a:off x="5337360" y="4952880"/>
            <a:ext cx="190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th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al Appe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i="1" lang="en-US" sz="1800" spc="-1" strike="noStrike">
                <a:solidFill>
                  <a:srgbClr val="000000"/>
                </a:solidFill>
                <a:latin typeface="Arial"/>
              </a:rPr>
              <a:t>ETH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5105520" y="2438280"/>
            <a:ext cx="3504960" cy="364824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Obama </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for President</a:t>
            </a:r>
            <a:endParaRPr b="0" lang="en-US" sz="48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Sans Unicode"/>
              </a:rPr>
              <a:t>2008</a:t>
            </a:r>
            <a:endParaRPr b="0" lang="en-US" sz="4800" spc="-1" strike="noStrike">
              <a:solidFill>
                <a:srgbClr val="000000"/>
              </a:solidFill>
              <a:latin typeface="Lucida Sans Unicode"/>
            </a:endParaRPr>
          </a:p>
        </p:txBody>
      </p:sp>
      <p:pic>
        <p:nvPicPr>
          <p:cNvPr id="386" name="Title 1" descr=""/>
          <p:cNvPicPr/>
          <p:nvPr/>
        </p:nvPicPr>
        <p:blipFill>
          <a:blip r:embed="rId1"/>
          <a:stretch/>
        </p:blipFill>
        <p:spPr>
          <a:xfrm>
            <a:off x="195120" y="268200"/>
            <a:ext cx="8498160" cy="1158840"/>
          </a:xfrm>
          <a:prstGeom prst="rect">
            <a:avLst/>
          </a:prstGeom>
          <a:ln w="0">
            <a:noFill/>
          </a:ln>
        </p:spPr>
      </p:pic>
      <p:pic>
        <p:nvPicPr>
          <p:cNvPr id="387" name="Picture 6" descr="http://upload.wikimedia.org/wikipedia/commons/thumb/6/63/ObamaBarack.jpg/89px-ObamaBarack.jpg">
            <a:hlinkClick r:id="rId2"/>
          </p:cNvPr>
          <p:cNvPicPr/>
          <p:nvPr/>
        </p:nvPicPr>
        <p:blipFill>
          <a:blip r:embed="rId3"/>
          <a:stretch/>
        </p:blipFill>
        <p:spPr>
          <a:xfrm>
            <a:off x="1752480" y="1676520"/>
            <a:ext cx="3581640" cy="439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Rectangle 2" descr=""/>
          <p:cNvPicPr/>
          <p:nvPr/>
        </p:nvPicPr>
        <p:blipFill>
          <a:blip r:embed="rId1"/>
          <a:stretch/>
        </p:blipFill>
        <p:spPr>
          <a:xfrm>
            <a:off x="195120" y="268200"/>
            <a:ext cx="8498160" cy="1158840"/>
          </a:xfrm>
          <a:prstGeom prst="rect">
            <a:avLst/>
          </a:prstGeom>
          <a:ln w="0">
            <a:noFill/>
          </a:ln>
        </p:spPr>
      </p:pic>
      <p:pic>
        <p:nvPicPr>
          <p:cNvPr id="390" name="Picture 5" descr="20040917_shelter"/>
          <p:cNvPicPr/>
          <p:nvPr/>
        </p:nvPicPr>
        <p:blipFill>
          <a:blip r:embed="rId2"/>
          <a:stretch/>
        </p:blipFill>
        <p:spPr>
          <a:xfrm>
            <a:off x="4343400" y="1295280"/>
            <a:ext cx="4419720" cy="524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5" descr="Movie Poster Image for Braveheart"/>
          <p:cNvPicPr/>
          <p:nvPr/>
        </p:nvPicPr>
        <p:blipFill>
          <a:blip r:embed="rId1"/>
          <a:stretch/>
        </p:blipFill>
        <p:spPr>
          <a:xfrm>
            <a:off x="4419720" y="1017720"/>
            <a:ext cx="4038480" cy="5840280"/>
          </a:xfrm>
          <a:prstGeom prst="rect">
            <a:avLst/>
          </a:prstGeom>
          <a:ln w="0">
            <a:noFill/>
          </a:ln>
        </p:spPr>
      </p:pic>
      <p:pic>
        <p:nvPicPr>
          <p:cNvPr id="392" name="Title 2" descr=""/>
          <p:cNvPicPr/>
          <p:nvPr/>
        </p:nvPicPr>
        <p:blipFill>
          <a:blip r:embed="rId2"/>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cuses on </a:t>
            </a:r>
            <a:r>
              <a:rPr b="1" lang="en-US" sz="2700" spc="-1" strike="noStrike">
                <a:solidFill>
                  <a:srgbClr val="000000"/>
                </a:solidFill>
                <a:latin typeface="Lucida Sans Unicode"/>
              </a:rPr>
              <a:t>readers</a:t>
            </a:r>
            <a:r>
              <a:rPr b="0" lang="en-US" sz="2700" spc="-1" strike="noStrike">
                <a:solidFill>
                  <a:srgbClr val="000000"/>
                </a:solidFill>
                <a:latin typeface="Lucida Sans Unicode"/>
              </a:rPr>
              <a:t> – </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rying to satisfy or convince them that you have thoroughly examined and presented information that merits attention.</a:t>
            </a:r>
            <a:endParaRPr b="0" lang="en-US" sz="2300" spc="-1" strike="noStrike">
              <a:solidFill>
                <a:srgbClr val="000000"/>
              </a:solidFill>
              <a:latin typeface="Lucida Sans Unicode"/>
            </a:endParaRPr>
          </a:p>
          <a:p>
            <a:pPr lvl="2" marL="858960" indent="-228600">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xample: </a:t>
            </a:r>
            <a:endParaRPr b="0" lang="en-US" sz="2100" spc="-1" strike="noStrike">
              <a:solidFill>
                <a:srgbClr val="000000"/>
              </a:solidFill>
              <a:latin typeface="Lucida Sans Unicode"/>
            </a:endParaRPr>
          </a:p>
          <a:p>
            <a:pPr lvl="3" marL="1143000" indent="-228600">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riting a research essay  on the causes of soil erosion in southeast Alabama </a:t>
            </a:r>
            <a:endParaRPr b="0" lang="en-US" sz="1900" spc="-1" strike="noStrike">
              <a:solidFill>
                <a:srgbClr val="000000"/>
              </a:solidFill>
              <a:latin typeface="Lucida Sans Unicode"/>
            </a:endParaRPr>
          </a:p>
        </p:txBody>
      </p:sp>
      <p:pic>
        <p:nvPicPr>
          <p:cNvPr id="394" name="AutoShape 1026"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ually show that there is merit in looking into a subject – that there is an argument to be ma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Lucida Sans Unicode"/>
              </a:rPr>
              <a:t>Opponent” can be the </a:t>
            </a:r>
            <a:r>
              <a:rPr b="0" i="1" lang="en-US" sz="2700" spc="-1" strike="noStrike">
                <a:solidFill>
                  <a:srgbClr val="000000"/>
                </a:solidFill>
                <a:latin typeface="Lucida Sans Unicode"/>
              </a:rPr>
              <a:t>status quo</a:t>
            </a:r>
            <a:r>
              <a:rPr b="0" lang="en-US" sz="2700" spc="-1" strike="noStrike">
                <a:solidFill>
                  <a:srgbClr val="000000"/>
                </a:solidFill>
                <a:latin typeface="Lucida Sans Unicode"/>
              </a:rPr>
              <a:t> or current tre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blem does exist – writer or reader needs to solve it.</a:t>
            </a:r>
            <a:endParaRPr b="0" lang="en-US" sz="2700" spc="-1" strike="noStrike">
              <a:solidFill>
                <a:srgbClr val="000000"/>
              </a:solidFill>
              <a:latin typeface="Lucida Sans Unicode"/>
            </a:endParaRPr>
          </a:p>
        </p:txBody>
      </p:sp>
      <p:pic>
        <p:nvPicPr>
          <p:cNvPr id="396" name="AutoShap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6T22:32:23Z</dcterms:created>
  <dc:creator>Cindy Warmack</dc:creator>
  <dc:description/>
  <dc:language>en-US</dc:language>
  <cp:lastModifiedBy>DCPS</cp:lastModifiedBy>
  <dcterms:modified xsi:type="dcterms:W3CDTF">2011-04-18T19:09:47Z</dcterms:modified>
  <cp:revision>19</cp:revision>
  <dc:subject/>
  <dc:title>Everything’s An Argument</dc:title>
</cp:coreProperties>
</file>